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media/image10.jpeg" ContentType="image/jpeg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566720" y="2693520"/>
            <a:ext cx="666288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566720" y="4257720"/>
            <a:ext cx="666288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66720" y="2693520"/>
            <a:ext cx="325116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980960" y="2693520"/>
            <a:ext cx="325116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66720" y="4257720"/>
            <a:ext cx="325116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980960" y="4257720"/>
            <a:ext cx="325116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566720" y="2693520"/>
            <a:ext cx="214524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819600" y="2693520"/>
            <a:ext cx="214524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72480" y="2693520"/>
            <a:ext cx="214524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566720" y="4257720"/>
            <a:ext cx="214524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819600" y="4257720"/>
            <a:ext cx="214524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072480" y="4257720"/>
            <a:ext cx="214524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1566720" y="2693520"/>
            <a:ext cx="6662880" cy="29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566720" y="2693520"/>
            <a:ext cx="6662880" cy="29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566720" y="2693520"/>
            <a:ext cx="3251160" cy="29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980960" y="2693520"/>
            <a:ext cx="3251160" cy="29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1169640" y="1045800"/>
            <a:ext cx="7380360" cy="46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566720" y="2693520"/>
            <a:ext cx="325116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980960" y="2693520"/>
            <a:ext cx="3251160" cy="29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1566720" y="4257720"/>
            <a:ext cx="325116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566720" y="2693520"/>
            <a:ext cx="6662880" cy="29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566720" y="2693520"/>
            <a:ext cx="3251160" cy="29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980960" y="2693520"/>
            <a:ext cx="325116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980960" y="4257720"/>
            <a:ext cx="325116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566720" y="2693520"/>
            <a:ext cx="325116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980960" y="2693520"/>
            <a:ext cx="325116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1566720" y="4257720"/>
            <a:ext cx="666288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566720" y="2693520"/>
            <a:ext cx="666288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1566720" y="4257720"/>
            <a:ext cx="666288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566720" y="2693520"/>
            <a:ext cx="325116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980960" y="2693520"/>
            <a:ext cx="325116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1566720" y="4257720"/>
            <a:ext cx="325116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980960" y="4257720"/>
            <a:ext cx="325116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566720" y="2693520"/>
            <a:ext cx="214524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819600" y="2693520"/>
            <a:ext cx="214524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72480" y="2693520"/>
            <a:ext cx="214524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1566720" y="4257720"/>
            <a:ext cx="214524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819600" y="4257720"/>
            <a:ext cx="214524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72480" y="4257720"/>
            <a:ext cx="214524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566720" y="2693520"/>
            <a:ext cx="6662880" cy="29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566720" y="2693520"/>
            <a:ext cx="3251160" cy="29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980960" y="2693520"/>
            <a:ext cx="3251160" cy="29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169640" y="1045800"/>
            <a:ext cx="7380360" cy="46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566720" y="2693520"/>
            <a:ext cx="325116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980960" y="2693520"/>
            <a:ext cx="3251160" cy="29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566720" y="4257720"/>
            <a:ext cx="325116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566720" y="2693520"/>
            <a:ext cx="3251160" cy="29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980960" y="2693520"/>
            <a:ext cx="325116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980960" y="4257720"/>
            <a:ext cx="325116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66720" y="2693520"/>
            <a:ext cx="325116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980960" y="2693520"/>
            <a:ext cx="325116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566720" y="4257720"/>
            <a:ext cx="666288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8400"/>
            <a:ext cx="8915400" cy="6713280"/>
            <a:chOff x="0" y="68400"/>
            <a:chExt cx="8915400" cy="6713280"/>
          </a:xfrm>
        </p:grpSpPr>
        <p:grpSp>
          <p:nvGrpSpPr>
            <p:cNvPr id="1" name=""/>
            <p:cNvGrpSpPr/>
            <p:nvPr/>
          </p:nvGrpSpPr>
          <p:grpSpPr>
            <a:xfrm>
              <a:off x="0" y="68400"/>
              <a:ext cx="647640" cy="6713280"/>
              <a:chOff x="0" y="68400"/>
              <a:chExt cx="647640" cy="671328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6672240"/>
                <a:ext cx="6476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729480"/>
                <a:ext cx="647640" cy="0"/>
              </a:xfrm>
              <a:prstGeom prst="line">
                <a:avLst/>
              </a:prstGeom>
              <a:ln w="381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781680"/>
                <a:ext cx="647640" cy="0"/>
              </a:xfrm>
              <a:prstGeom prst="line">
                <a:avLst/>
              </a:prstGeom>
              <a:ln w="1908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6529320"/>
                <a:ext cx="647640" cy="0"/>
              </a:xfrm>
              <a:prstGeom prst="line">
                <a:avLst/>
              </a:prstGeom>
              <a:ln w="284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6453360"/>
                <a:ext cx="647640" cy="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6600960"/>
                <a:ext cx="647640" cy="0"/>
              </a:xfrm>
              <a:prstGeom prst="line">
                <a:avLst/>
              </a:prstGeom>
              <a:ln w="1908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5819760"/>
                <a:ext cx="6476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5776920"/>
                <a:ext cx="647640" cy="0"/>
              </a:xfrm>
              <a:prstGeom prst="line">
                <a:avLst/>
              </a:prstGeom>
              <a:ln w="381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6381720"/>
                <a:ext cx="647640" cy="0"/>
              </a:xfrm>
              <a:prstGeom prst="line">
                <a:avLst/>
              </a:prstGeom>
              <a:ln w="1908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6181560"/>
                <a:ext cx="647640" cy="0"/>
              </a:xfrm>
              <a:prstGeom prst="line">
                <a:avLst/>
              </a:prstGeom>
              <a:ln w="284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6053040"/>
                <a:ext cx="647640" cy="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6348240"/>
                <a:ext cx="6476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5853240"/>
                <a:ext cx="647640" cy="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5938920"/>
                <a:ext cx="647640" cy="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6253200"/>
                <a:ext cx="647640" cy="0"/>
              </a:xfrm>
              <a:prstGeom prst="line">
                <a:avLst/>
              </a:prstGeom>
              <a:ln w="1908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6219720"/>
                <a:ext cx="6476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5572080"/>
                <a:ext cx="6476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5629320"/>
                <a:ext cx="647640" cy="0"/>
              </a:xfrm>
              <a:prstGeom prst="line">
                <a:avLst/>
              </a:prstGeom>
              <a:ln w="381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5681520"/>
                <a:ext cx="647640" cy="0"/>
              </a:xfrm>
              <a:prstGeom prst="line">
                <a:avLst/>
              </a:prstGeom>
              <a:ln w="1908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5429160"/>
                <a:ext cx="647640" cy="0"/>
              </a:xfrm>
              <a:prstGeom prst="line">
                <a:avLst/>
              </a:prstGeom>
              <a:ln w="284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5353200"/>
                <a:ext cx="647640" cy="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500800"/>
                <a:ext cx="647640" cy="0"/>
              </a:xfrm>
              <a:prstGeom prst="line">
                <a:avLst/>
              </a:prstGeom>
              <a:ln w="1908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4719600"/>
                <a:ext cx="6476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4676760"/>
                <a:ext cx="647640" cy="0"/>
              </a:xfrm>
              <a:prstGeom prst="line">
                <a:avLst/>
              </a:prstGeom>
              <a:ln w="381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5281560"/>
                <a:ext cx="647640" cy="0"/>
              </a:xfrm>
              <a:prstGeom prst="line">
                <a:avLst/>
              </a:prstGeom>
              <a:ln w="1908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5081760"/>
                <a:ext cx="647640" cy="0"/>
              </a:xfrm>
              <a:prstGeom prst="line">
                <a:avLst/>
              </a:prstGeom>
              <a:ln w="284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0" y="4952880"/>
                <a:ext cx="647640" cy="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0" y="5248440"/>
                <a:ext cx="6476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0" y="4753080"/>
                <a:ext cx="647640" cy="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0" y="4838760"/>
                <a:ext cx="647640" cy="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0" y="5153040"/>
                <a:ext cx="647640" cy="0"/>
              </a:xfrm>
              <a:prstGeom prst="line">
                <a:avLst/>
              </a:prstGeom>
              <a:ln w="1908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0" y="5119560"/>
                <a:ext cx="6476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0" y="4494240"/>
                <a:ext cx="647640" cy="0"/>
              </a:xfrm>
              <a:prstGeom prst="line">
                <a:avLst/>
              </a:prstGeom>
              <a:ln w="284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0" y="4365720"/>
                <a:ext cx="647640" cy="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0" y="4251240"/>
                <a:ext cx="647640" cy="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0" y="4565520"/>
                <a:ext cx="647640" cy="0"/>
              </a:xfrm>
              <a:prstGeom prst="line">
                <a:avLst/>
              </a:prstGeom>
              <a:ln w="1908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0" y="4532400"/>
                <a:ext cx="6476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0" y="4054320"/>
                <a:ext cx="6476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0" y="4111560"/>
                <a:ext cx="647640" cy="0"/>
              </a:xfrm>
              <a:prstGeom prst="line">
                <a:avLst/>
              </a:prstGeom>
              <a:ln w="381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0" y="4164120"/>
                <a:ext cx="647640" cy="0"/>
              </a:xfrm>
              <a:prstGeom prst="line">
                <a:avLst/>
              </a:prstGeom>
              <a:ln w="1908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0" y="3911760"/>
                <a:ext cx="647640" cy="0"/>
              </a:xfrm>
              <a:prstGeom prst="line">
                <a:avLst/>
              </a:prstGeom>
              <a:ln w="284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0" y="3835440"/>
                <a:ext cx="647640" cy="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0" y="3983040"/>
                <a:ext cx="647640" cy="0"/>
              </a:xfrm>
              <a:prstGeom prst="line">
                <a:avLst/>
              </a:prstGeom>
              <a:ln w="1908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0" y="3763800"/>
                <a:ext cx="647640" cy="0"/>
              </a:xfrm>
              <a:prstGeom prst="line">
                <a:avLst/>
              </a:prstGeom>
              <a:ln w="1908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0" y="3564000"/>
                <a:ext cx="647640" cy="0"/>
              </a:xfrm>
              <a:prstGeom prst="line">
                <a:avLst/>
              </a:prstGeom>
              <a:ln w="284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0" y="3730680"/>
                <a:ext cx="6476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0" y="3635280"/>
                <a:ext cx="647640" cy="0"/>
              </a:xfrm>
              <a:prstGeom prst="line">
                <a:avLst/>
              </a:prstGeom>
              <a:ln w="1908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3602160"/>
                <a:ext cx="6476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0" y="3381480"/>
                <a:ext cx="6476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0" y="3438360"/>
                <a:ext cx="647640" cy="0"/>
              </a:xfrm>
              <a:prstGeom prst="line">
                <a:avLst/>
              </a:prstGeom>
              <a:ln w="381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3490920"/>
                <a:ext cx="647640" cy="0"/>
              </a:xfrm>
              <a:prstGeom prst="line">
                <a:avLst/>
              </a:prstGeom>
              <a:ln w="1908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0" y="3238560"/>
                <a:ext cx="647640" cy="0"/>
              </a:xfrm>
              <a:prstGeom prst="line">
                <a:avLst/>
              </a:prstGeom>
              <a:ln w="284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3162240"/>
                <a:ext cx="647640" cy="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0" y="3309840"/>
                <a:ext cx="647640" cy="0"/>
              </a:xfrm>
              <a:prstGeom prst="line">
                <a:avLst/>
              </a:prstGeom>
              <a:ln w="1908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0" y="2529000"/>
                <a:ext cx="6476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2486160"/>
                <a:ext cx="647640" cy="0"/>
              </a:xfrm>
              <a:prstGeom prst="line">
                <a:avLst/>
              </a:prstGeom>
              <a:ln w="381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090960"/>
                <a:ext cx="647640" cy="0"/>
              </a:xfrm>
              <a:prstGeom prst="line">
                <a:avLst/>
              </a:prstGeom>
              <a:ln w="1908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2890800"/>
                <a:ext cx="647640" cy="0"/>
              </a:xfrm>
              <a:prstGeom prst="line">
                <a:avLst/>
              </a:prstGeom>
              <a:ln w="284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762280"/>
                <a:ext cx="647640" cy="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3057480"/>
                <a:ext cx="6476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62120"/>
                <a:ext cx="647640" cy="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647800"/>
                <a:ext cx="647640" cy="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0" y="2962440"/>
                <a:ext cx="647640" cy="0"/>
              </a:xfrm>
              <a:prstGeom prst="line">
                <a:avLst/>
              </a:prstGeom>
              <a:ln w="1908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0" y="2928960"/>
                <a:ext cx="6476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0" y="2281320"/>
                <a:ext cx="6476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0" y="2338560"/>
                <a:ext cx="647640" cy="0"/>
              </a:xfrm>
              <a:prstGeom prst="line">
                <a:avLst/>
              </a:prstGeom>
              <a:ln w="381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0" y="2390760"/>
                <a:ext cx="647640" cy="0"/>
              </a:xfrm>
              <a:prstGeom prst="line">
                <a:avLst/>
              </a:prstGeom>
              <a:ln w="1908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0" y="2138400"/>
                <a:ext cx="647640" cy="0"/>
              </a:xfrm>
              <a:prstGeom prst="line">
                <a:avLst/>
              </a:prstGeom>
              <a:ln w="284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0" y="2209680"/>
                <a:ext cx="647640" cy="0"/>
              </a:xfrm>
              <a:prstGeom prst="line">
                <a:avLst/>
              </a:prstGeom>
              <a:ln w="1908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0" y="1612800"/>
                <a:ext cx="6476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0" y="1569960"/>
                <a:ext cx="647640" cy="0"/>
              </a:xfrm>
              <a:prstGeom prst="line">
                <a:avLst/>
              </a:prstGeom>
              <a:ln w="381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0" y="1974960"/>
                <a:ext cx="647640" cy="0"/>
              </a:xfrm>
              <a:prstGeom prst="line">
                <a:avLst/>
              </a:prstGeom>
              <a:ln w="284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0" y="1846440"/>
                <a:ext cx="647640" cy="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0" y="1646280"/>
                <a:ext cx="647640" cy="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0" y="1731960"/>
                <a:ext cx="647640" cy="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0" y="2046240"/>
                <a:ext cx="647640" cy="0"/>
              </a:xfrm>
              <a:prstGeom prst="line">
                <a:avLst/>
              </a:prstGeom>
              <a:ln w="1908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0" y="2013120"/>
                <a:ext cx="6476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0" y="1365120"/>
                <a:ext cx="6476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0" y="1422360"/>
                <a:ext cx="647640" cy="0"/>
              </a:xfrm>
              <a:prstGeom prst="line">
                <a:avLst/>
              </a:prstGeom>
              <a:ln w="381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0" y="1474920"/>
                <a:ext cx="647640" cy="0"/>
              </a:xfrm>
              <a:prstGeom prst="line">
                <a:avLst/>
              </a:prstGeom>
              <a:ln w="1908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0" y="1222200"/>
                <a:ext cx="647640" cy="0"/>
              </a:xfrm>
              <a:prstGeom prst="line">
                <a:avLst/>
              </a:prstGeom>
              <a:ln w="284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0" y="1293840"/>
                <a:ext cx="647640" cy="0"/>
              </a:xfrm>
              <a:prstGeom prst="line">
                <a:avLst/>
              </a:prstGeom>
              <a:ln w="1908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0" y="1139760"/>
                <a:ext cx="647640" cy="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1025640"/>
                <a:ext cx="647640" cy="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828720"/>
                <a:ext cx="6476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885960"/>
                <a:ext cx="647640" cy="0"/>
              </a:xfrm>
              <a:prstGeom prst="line">
                <a:avLst/>
              </a:prstGeom>
              <a:ln w="381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938160"/>
                <a:ext cx="647640" cy="0"/>
              </a:xfrm>
              <a:prstGeom prst="line">
                <a:avLst/>
              </a:prstGeom>
              <a:ln w="1908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0" y="685800"/>
                <a:ext cx="647640" cy="0"/>
              </a:xfrm>
              <a:prstGeom prst="line">
                <a:avLst/>
              </a:prstGeom>
              <a:ln w="284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0" y="609480"/>
                <a:ext cx="647640" cy="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0" y="757080"/>
                <a:ext cx="647640" cy="0"/>
              </a:xfrm>
              <a:prstGeom prst="line">
                <a:avLst/>
              </a:prstGeom>
              <a:ln w="1908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0" y="538200"/>
                <a:ext cx="647640" cy="0"/>
              </a:xfrm>
              <a:prstGeom prst="line">
                <a:avLst/>
              </a:prstGeom>
              <a:ln w="1908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0" y="504720"/>
                <a:ext cx="6476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0" y="409680"/>
                <a:ext cx="647640" cy="0"/>
              </a:xfrm>
              <a:prstGeom prst="line">
                <a:avLst/>
              </a:prstGeom>
              <a:ln w="1908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0" y="111240"/>
                <a:ext cx="6476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0" y="68400"/>
                <a:ext cx="647640" cy="0"/>
              </a:xfrm>
              <a:prstGeom prst="line">
                <a:avLst/>
              </a:prstGeom>
              <a:ln w="381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0" y="144360"/>
                <a:ext cx="647640" cy="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0" y="230040"/>
                <a:ext cx="647640" cy="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0" y="320760"/>
                <a:ext cx="647640" cy="0"/>
              </a:xfrm>
              <a:prstGeom prst="line">
                <a:avLst/>
              </a:prstGeom>
              <a:ln w="381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635040" y="325440"/>
              <a:ext cx="8280360" cy="1782720"/>
              <a:chOff x="635040" y="325440"/>
              <a:chExt cx="8280360" cy="1782720"/>
            </a:xfrm>
          </p:grpSpPr>
          <p:sp>
            <p:nvSpPr>
              <p:cNvPr id="101" name=""/>
              <p:cNvSpPr/>
              <p:nvPr/>
            </p:nvSpPr>
            <p:spPr>
              <a:xfrm>
                <a:off x="884160" y="325440"/>
                <a:ext cx="496800" cy="14508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35040" y="457200"/>
                <a:ext cx="5662440" cy="7776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300800" y="1770120"/>
                <a:ext cx="1474920" cy="33804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252960" y="1922400"/>
                <a:ext cx="5662440" cy="7776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809640" y="2214720"/>
            <a:ext cx="7958160" cy="36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333333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799"/>
              </a:spcBef>
              <a:buClr>
                <a:srgbClr val="333333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55440" indent="-200880">
              <a:spcBef>
                <a:spcPts val="799"/>
              </a:spcBef>
              <a:buClr>
                <a:srgbClr val="33333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57120" indent="-200880">
              <a:spcBef>
                <a:spcPts val="799"/>
              </a:spcBef>
              <a:buClr>
                <a:srgbClr val="333333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58800" indent="-200880">
              <a:spcBef>
                <a:spcPts val="799"/>
              </a:spcBef>
              <a:buClr>
                <a:srgbClr val="333333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558800" indent="-2008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558800" indent="-2008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7520" y="6586560"/>
            <a:ext cx="94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081160" y="6402240"/>
            <a:ext cx="5005440" cy="2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234280" y="6588000"/>
            <a:ext cx="94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57763-DC38-476A-911E-F7C61C98F19D}" type="slidenum">
              <a:rPr b="1" lang="es-MX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rot="5400000">
            <a:off x="5670360" y="3261240"/>
            <a:ext cx="6629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dddddd"/>
                </a:solidFill>
                <a:latin typeface="Arial Black"/>
              </a:rPr>
              <a:t>1</a:t>
            </a:r>
            <a:r>
              <a:rPr b="0" lang="es-MX" sz="1400" spc="-1" strike="noStrike" baseline="30000">
                <a:solidFill>
                  <a:srgbClr val="dddddd"/>
                </a:solidFill>
                <a:latin typeface="Arial Black"/>
              </a:rPr>
              <a:t>ra</a:t>
            </a:r>
            <a:r>
              <a:rPr b="0" lang="es-MX" sz="1400" spc="-1" strike="noStrike">
                <a:solidFill>
                  <a:srgbClr val="dddddd"/>
                </a:solidFill>
                <a:latin typeface="Arial Black"/>
              </a:rPr>
              <a:t> Reunión Nacional de  Ciencias Empresaria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" name=""/>
          <p:cNvGrpSpPr/>
          <p:nvPr/>
        </p:nvGrpSpPr>
        <p:grpSpPr>
          <a:xfrm>
            <a:off x="0" y="68400"/>
            <a:ext cx="8678880" cy="6713280"/>
            <a:chOff x="0" y="68400"/>
            <a:chExt cx="8678880" cy="6713280"/>
          </a:xfrm>
        </p:grpSpPr>
        <p:sp>
          <p:nvSpPr>
            <p:cNvPr id="148" name=""/>
            <p:cNvSpPr/>
            <p:nvPr/>
          </p:nvSpPr>
          <p:spPr>
            <a:xfrm>
              <a:off x="1098720" y="784080"/>
              <a:ext cx="7580160" cy="148608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9" name=""/>
            <p:cNvGrpSpPr/>
            <p:nvPr/>
          </p:nvGrpSpPr>
          <p:grpSpPr>
            <a:xfrm>
              <a:off x="0" y="68400"/>
              <a:ext cx="990720" cy="6713280"/>
              <a:chOff x="0" y="68400"/>
              <a:chExt cx="990720" cy="6713280"/>
            </a:xfrm>
          </p:grpSpPr>
          <p:sp>
            <p:nvSpPr>
              <p:cNvPr id="150" name=""/>
              <p:cNvSpPr/>
              <p:nvPr/>
            </p:nvSpPr>
            <p:spPr>
              <a:xfrm>
                <a:off x="0" y="6672240"/>
                <a:ext cx="9907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0" y="6729480"/>
                <a:ext cx="990720" cy="0"/>
              </a:xfrm>
              <a:prstGeom prst="line">
                <a:avLst/>
              </a:prstGeom>
              <a:ln w="381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0" y="6781680"/>
                <a:ext cx="990720" cy="0"/>
              </a:xfrm>
              <a:prstGeom prst="line">
                <a:avLst/>
              </a:prstGeom>
              <a:ln w="1908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0" y="6529320"/>
                <a:ext cx="990720" cy="0"/>
              </a:xfrm>
              <a:prstGeom prst="line">
                <a:avLst/>
              </a:prstGeom>
              <a:ln w="284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0" y="6453360"/>
                <a:ext cx="990720" cy="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0" y="6600960"/>
                <a:ext cx="990720" cy="0"/>
              </a:xfrm>
              <a:prstGeom prst="line">
                <a:avLst/>
              </a:prstGeom>
              <a:ln w="1908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0" y="5819760"/>
                <a:ext cx="9907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0" y="5776920"/>
                <a:ext cx="990720" cy="0"/>
              </a:xfrm>
              <a:prstGeom prst="line">
                <a:avLst/>
              </a:prstGeom>
              <a:ln w="381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0" y="6381720"/>
                <a:ext cx="990720" cy="0"/>
              </a:xfrm>
              <a:prstGeom prst="line">
                <a:avLst/>
              </a:prstGeom>
              <a:ln w="1908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0" y="6181560"/>
                <a:ext cx="990720" cy="0"/>
              </a:xfrm>
              <a:prstGeom prst="line">
                <a:avLst/>
              </a:prstGeom>
              <a:ln w="284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0" y="6053040"/>
                <a:ext cx="990720" cy="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0" y="6348240"/>
                <a:ext cx="9907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0" y="5853240"/>
                <a:ext cx="990720" cy="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0" y="5938920"/>
                <a:ext cx="990720" cy="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6253200"/>
                <a:ext cx="990720" cy="0"/>
              </a:xfrm>
              <a:prstGeom prst="line">
                <a:avLst/>
              </a:prstGeom>
              <a:ln w="1908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6219720"/>
                <a:ext cx="9907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5572080"/>
                <a:ext cx="9907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5629320"/>
                <a:ext cx="990720" cy="0"/>
              </a:xfrm>
              <a:prstGeom prst="line">
                <a:avLst/>
              </a:prstGeom>
              <a:ln w="381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0" y="5681520"/>
                <a:ext cx="990720" cy="0"/>
              </a:xfrm>
              <a:prstGeom prst="line">
                <a:avLst/>
              </a:prstGeom>
              <a:ln w="1908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0" y="5429160"/>
                <a:ext cx="990720" cy="0"/>
              </a:xfrm>
              <a:prstGeom prst="line">
                <a:avLst/>
              </a:prstGeom>
              <a:ln w="284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0" y="5353200"/>
                <a:ext cx="990720" cy="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0" y="5500800"/>
                <a:ext cx="990720" cy="0"/>
              </a:xfrm>
              <a:prstGeom prst="line">
                <a:avLst/>
              </a:prstGeom>
              <a:ln w="1908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0" y="4719600"/>
                <a:ext cx="9907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0" y="4676760"/>
                <a:ext cx="990720" cy="0"/>
              </a:xfrm>
              <a:prstGeom prst="line">
                <a:avLst/>
              </a:prstGeom>
              <a:ln w="381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0" y="5281560"/>
                <a:ext cx="990720" cy="0"/>
              </a:xfrm>
              <a:prstGeom prst="line">
                <a:avLst/>
              </a:prstGeom>
              <a:ln w="1908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0" y="5081760"/>
                <a:ext cx="990720" cy="0"/>
              </a:xfrm>
              <a:prstGeom prst="line">
                <a:avLst/>
              </a:prstGeom>
              <a:ln w="284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0" y="4952880"/>
                <a:ext cx="990720" cy="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0" y="5248440"/>
                <a:ext cx="9907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0" y="4753080"/>
                <a:ext cx="990720" cy="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0" y="4838760"/>
                <a:ext cx="990720" cy="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0" y="5153040"/>
                <a:ext cx="990720" cy="0"/>
              </a:xfrm>
              <a:prstGeom prst="line">
                <a:avLst/>
              </a:prstGeom>
              <a:ln w="1908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0" y="5119560"/>
                <a:ext cx="9907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0" y="4494240"/>
                <a:ext cx="990720" cy="0"/>
              </a:xfrm>
              <a:prstGeom prst="line">
                <a:avLst/>
              </a:prstGeom>
              <a:ln w="284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0" y="4365720"/>
                <a:ext cx="990720" cy="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0" y="4251240"/>
                <a:ext cx="990720" cy="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0" y="4565520"/>
                <a:ext cx="990720" cy="0"/>
              </a:xfrm>
              <a:prstGeom prst="line">
                <a:avLst/>
              </a:prstGeom>
              <a:ln w="1908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0" y="4532400"/>
                <a:ext cx="9907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0" y="4054320"/>
                <a:ext cx="9907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0" y="4111560"/>
                <a:ext cx="990720" cy="0"/>
              </a:xfrm>
              <a:prstGeom prst="line">
                <a:avLst/>
              </a:prstGeom>
              <a:ln w="381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0" y="4164120"/>
                <a:ext cx="990720" cy="0"/>
              </a:xfrm>
              <a:prstGeom prst="line">
                <a:avLst/>
              </a:prstGeom>
              <a:ln w="1908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0" y="3911760"/>
                <a:ext cx="990720" cy="0"/>
              </a:xfrm>
              <a:prstGeom prst="line">
                <a:avLst/>
              </a:prstGeom>
              <a:ln w="284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0" y="3835440"/>
                <a:ext cx="990720" cy="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0" y="3983040"/>
                <a:ext cx="990720" cy="0"/>
              </a:xfrm>
              <a:prstGeom prst="line">
                <a:avLst/>
              </a:prstGeom>
              <a:ln w="1908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0" y="3763800"/>
                <a:ext cx="990720" cy="0"/>
              </a:xfrm>
              <a:prstGeom prst="line">
                <a:avLst/>
              </a:prstGeom>
              <a:ln w="1908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0" y="3564000"/>
                <a:ext cx="990720" cy="0"/>
              </a:xfrm>
              <a:prstGeom prst="line">
                <a:avLst/>
              </a:prstGeom>
              <a:ln w="284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0" y="3730680"/>
                <a:ext cx="9907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0" y="3635280"/>
                <a:ext cx="990720" cy="0"/>
              </a:xfrm>
              <a:prstGeom prst="line">
                <a:avLst/>
              </a:prstGeom>
              <a:ln w="1908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0" y="3602160"/>
                <a:ext cx="9907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0" y="3381480"/>
                <a:ext cx="9907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0" y="3438360"/>
                <a:ext cx="990720" cy="0"/>
              </a:xfrm>
              <a:prstGeom prst="line">
                <a:avLst/>
              </a:prstGeom>
              <a:ln w="381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0" y="3490920"/>
                <a:ext cx="990720" cy="0"/>
              </a:xfrm>
              <a:prstGeom prst="line">
                <a:avLst/>
              </a:prstGeom>
              <a:ln w="1908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0" y="3238560"/>
                <a:ext cx="990720" cy="0"/>
              </a:xfrm>
              <a:prstGeom prst="line">
                <a:avLst/>
              </a:prstGeom>
              <a:ln w="284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0" y="3162240"/>
                <a:ext cx="990720" cy="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0" y="3309840"/>
                <a:ext cx="990720" cy="0"/>
              </a:xfrm>
              <a:prstGeom prst="line">
                <a:avLst/>
              </a:prstGeom>
              <a:ln w="1908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0" y="2529000"/>
                <a:ext cx="9907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0" y="2486160"/>
                <a:ext cx="990720" cy="0"/>
              </a:xfrm>
              <a:prstGeom prst="line">
                <a:avLst/>
              </a:prstGeom>
              <a:ln w="381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0" y="3090960"/>
                <a:ext cx="990720" cy="0"/>
              </a:xfrm>
              <a:prstGeom prst="line">
                <a:avLst/>
              </a:prstGeom>
              <a:ln w="1908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0" y="2890800"/>
                <a:ext cx="990720" cy="0"/>
              </a:xfrm>
              <a:prstGeom prst="line">
                <a:avLst/>
              </a:prstGeom>
              <a:ln w="284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0" y="2762280"/>
                <a:ext cx="990720" cy="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0" y="3057480"/>
                <a:ext cx="9907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0" y="2562120"/>
                <a:ext cx="990720" cy="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0" y="2647800"/>
                <a:ext cx="990720" cy="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0" y="2962440"/>
                <a:ext cx="990720" cy="0"/>
              </a:xfrm>
              <a:prstGeom prst="line">
                <a:avLst/>
              </a:prstGeom>
              <a:ln w="1908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0" y="2928960"/>
                <a:ext cx="9907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0" y="2281320"/>
                <a:ext cx="9907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0" y="2338560"/>
                <a:ext cx="990720" cy="0"/>
              </a:xfrm>
              <a:prstGeom prst="line">
                <a:avLst/>
              </a:prstGeom>
              <a:ln w="381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0" y="2390760"/>
                <a:ext cx="990720" cy="0"/>
              </a:xfrm>
              <a:prstGeom prst="line">
                <a:avLst/>
              </a:prstGeom>
              <a:ln w="1908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0" y="2138400"/>
                <a:ext cx="990720" cy="0"/>
              </a:xfrm>
              <a:prstGeom prst="line">
                <a:avLst/>
              </a:prstGeom>
              <a:ln w="284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0" y="2209680"/>
                <a:ext cx="990720" cy="0"/>
              </a:xfrm>
              <a:prstGeom prst="line">
                <a:avLst/>
              </a:prstGeom>
              <a:ln w="1908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0" y="1612800"/>
                <a:ext cx="9907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0" y="1569960"/>
                <a:ext cx="990720" cy="0"/>
              </a:xfrm>
              <a:prstGeom prst="line">
                <a:avLst/>
              </a:prstGeom>
              <a:ln w="381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0" y="1974960"/>
                <a:ext cx="990720" cy="0"/>
              </a:xfrm>
              <a:prstGeom prst="line">
                <a:avLst/>
              </a:prstGeom>
              <a:ln w="284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0" y="1846440"/>
                <a:ext cx="990720" cy="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0" y="1646280"/>
                <a:ext cx="990720" cy="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0" y="1731960"/>
                <a:ext cx="990720" cy="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0" y="2046240"/>
                <a:ext cx="990720" cy="0"/>
              </a:xfrm>
              <a:prstGeom prst="line">
                <a:avLst/>
              </a:prstGeom>
              <a:ln w="1908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0" y="2013120"/>
                <a:ext cx="9907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0" y="1365120"/>
                <a:ext cx="9907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0" y="1422360"/>
                <a:ext cx="990720" cy="0"/>
              </a:xfrm>
              <a:prstGeom prst="line">
                <a:avLst/>
              </a:prstGeom>
              <a:ln w="381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0" y="1474920"/>
                <a:ext cx="990720" cy="0"/>
              </a:xfrm>
              <a:prstGeom prst="line">
                <a:avLst/>
              </a:prstGeom>
              <a:ln w="1908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0" y="1222200"/>
                <a:ext cx="990720" cy="0"/>
              </a:xfrm>
              <a:prstGeom prst="line">
                <a:avLst/>
              </a:prstGeom>
              <a:ln w="284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0" y="1293840"/>
                <a:ext cx="990720" cy="0"/>
              </a:xfrm>
              <a:prstGeom prst="line">
                <a:avLst/>
              </a:prstGeom>
              <a:ln w="1908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0" y="1139760"/>
                <a:ext cx="990720" cy="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0" y="1025640"/>
                <a:ext cx="990720" cy="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0" y="828720"/>
                <a:ext cx="9907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0" y="885960"/>
                <a:ext cx="990720" cy="0"/>
              </a:xfrm>
              <a:prstGeom prst="line">
                <a:avLst/>
              </a:prstGeom>
              <a:ln w="381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938160"/>
                <a:ext cx="990720" cy="0"/>
              </a:xfrm>
              <a:prstGeom prst="line">
                <a:avLst/>
              </a:prstGeom>
              <a:ln w="1908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0" y="685800"/>
                <a:ext cx="990720" cy="0"/>
              </a:xfrm>
              <a:prstGeom prst="line">
                <a:avLst/>
              </a:prstGeom>
              <a:ln w="284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0" y="609480"/>
                <a:ext cx="990720" cy="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757080"/>
                <a:ext cx="990720" cy="0"/>
              </a:xfrm>
              <a:prstGeom prst="line">
                <a:avLst/>
              </a:prstGeom>
              <a:ln w="1908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0" y="538200"/>
                <a:ext cx="990720" cy="0"/>
              </a:xfrm>
              <a:prstGeom prst="line">
                <a:avLst/>
              </a:prstGeom>
              <a:ln w="1908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0" y="504720"/>
                <a:ext cx="9907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0" y="409680"/>
                <a:ext cx="990720" cy="0"/>
              </a:xfrm>
              <a:prstGeom prst="line">
                <a:avLst/>
              </a:prstGeom>
              <a:ln w="1908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0" y="111240"/>
                <a:ext cx="9907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68400"/>
                <a:ext cx="990720" cy="0"/>
              </a:xfrm>
              <a:prstGeom prst="line">
                <a:avLst/>
              </a:prstGeom>
              <a:ln w="381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0" y="144360"/>
                <a:ext cx="990720" cy="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0" y="230040"/>
                <a:ext cx="990720" cy="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0" y="320760"/>
                <a:ext cx="990720" cy="0"/>
              </a:xfrm>
              <a:prstGeom prst="line">
                <a:avLst/>
              </a:prstGeom>
              <a:ln w="381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017880" y="2120760"/>
            <a:ext cx="5662440" cy="77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098720" y="861840"/>
            <a:ext cx="5662440" cy="781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857160" algn="ctr">
              <a:spcBef>
                <a:spcPts val="601"/>
              </a:spcBef>
              <a:buClr>
                <a:srgbClr val="333333"/>
              </a:buClr>
              <a:buSzPct val="6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0240" algn="ctr">
              <a:spcBef>
                <a:spcPts val="499"/>
              </a:spcBef>
              <a:buClr>
                <a:srgbClr val="333333"/>
              </a:buClr>
              <a:buSzPct val="8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542960" algn="ctr">
              <a:spcBef>
                <a:spcPts val="451"/>
              </a:spcBef>
              <a:buClr>
                <a:srgbClr val="333333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54296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54296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0000"/>
                </a:solidFill>
                <a:latin typeface="Trebuchet MS"/>
              </a:rPr>
              <a:t>Nuevas Tendencias Administrativas “ Reingenieria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914040" y="2666880"/>
            <a:ext cx="800100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Dirección General de Recursos Human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Preparado para 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Reingeniería de proceso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y mejora del desempe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ñ</a:t>
            </a: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Presen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Lic. Jaime G. S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nchez Carrill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971640" y="321840"/>
            <a:ext cx="737856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5. Modelos de Reingenierí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762120" y="981000"/>
            <a:ext cx="807696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33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cc"/>
                </a:solidFill>
                <a:latin typeface="Arial"/>
              </a:rPr>
              <a:t>Modelo de Reingeniería Rápida  (RE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33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Preparaci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ó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n del estudi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33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Identificaci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ó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n de áreas de oportunid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33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Visi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ó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n y alcan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33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Dise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ñ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o Técnico.- aplicación de herramient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33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Dise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ñ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o Social.- Recursos Human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33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Transformaci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ó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n.- cambios, simplificaci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ó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n, valor agrega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33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 u="sng">
                <a:solidFill>
                  <a:srgbClr val="000000"/>
                </a:solidFill>
                <a:uFillTx/>
                <a:latin typeface="Arial"/>
              </a:rPr>
              <a:t>Nota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33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Enfocado a realizar una reingeniería en el menor tiempo posible (ejemplo 6 meses) al definir claramente la Visión del proceso, lo prepara y redefin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33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Es un buen modelo, aunque requiere de un total involucramiento de los Lideres de la organización(si no se da;  se llega al fracas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33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Modelos clásicos :(continua)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" name="" descr=""/>
          <p:cNvPicPr/>
          <p:nvPr/>
        </p:nvPicPr>
        <p:blipFill>
          <a:blip r:embed="rId1"/>
          <a:stretch/>
        </p:blipFill>
        <p:spPr>
          <a:xfrm>
            <a:off x="7543800" y="5929200"/>
            <a:ext cx="914400" cy="6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3785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 u="sng">
                <a:solidFill>
                  <a:srgbClr val="000000"/>
                </a:solidFill>
                <a:uFillTx/>
                <a:latin typeface="Arial"/>
              </a:rPr>
              <a:t>5.1. Modelo American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250560" y="1268280"/>
            <a:ext cx="876276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33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cc"/>
                </a:solidFill>
                <a:latin typeface="Arial"/>
              </a:rPr>
              <a:t>Sus pasos  :</a:t>
            </a:r>
            <a:r>
              <a:rPr b="0" lang="es-ES" sz="24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1.-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Revisi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ó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n en lo fundamental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.- Posicionamiento.(Que y porque?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2.-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Redise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ñ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o radical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.- cambio en los procesos.(!Reinventar el negocio!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3.-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Mejoras espectaculares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.- Valor Agregado.(resultaos contundentes!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4.-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Rendimiento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, costos, servicios.- Indicadores de Productivid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5.-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Alianzas estratégicas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.- convenios y Outsourc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 u="sng">
                <a:solidFill>
                  <a:srgbClr val="000000"/>
                </a:solidFill>
                <a:uFillTx/>
                <a:latin typeface="Arial"/>
              </a:rPr>
              <a:t>Notas</a:t>
            </a:r>
            <a:r>
              <a:rPr b="0" lang="es-MX" sz="20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nfocado a encontrar mejoras espectaculares, aunque descuida el factor Humano,que juega un papel clave en las organizaciones Mexican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s bueno pero muy exigente ya que permite un posicionamiento de la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Organización con estándares de Clase Mundi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1"/>
          <a:stretch/>
        </p:blipFill>
        <p:spPr>
          <a:xfrm>
            <a:off x="7467480" y="6019920"/>
            <a:ext cx="990720" cy="54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99640" y="188640"/>
            <a:ext cx="7378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 u="sng">
                <a:solidFill>
                  <a:srgbClr val="000000"/>
                </a:solidFill>
                <a:uFillTx/>
                <a:latin typeface="Arial"/>
              </a:rPr>
              <a:t>5.2. Modelo Ingles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24000" y="1197000"/>
            <a:ext cx="8496000" cy="45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808080"/>
                </a:solidFill>
                <a:latin typeface="Arial"/>
              </a:rPr>
              <a:t>     </a:t>
            </a:r>
            <a:r>
              <a:rPr b="1" lang="es-MX" sz="2800" spc="-1" strike="noStrike">
                <a:solidFill>
                  <a:srgbClr val="0000cc"/>
                </a:solidFill>
                <a:latin typeface="Arial"/>
              </a:rPr>
              <a:t>Sus pasos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808080"/>
                </a:solidFill>
                <a:latin typeface="Arial"/>
              </a:rPr>
              <a:t>1.-</a:t>
            </a:r>
            <a:r>
              <a:rPr b="1" lang="es-MX" sz="24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Descubrimiento: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  Plan estratégico en busca del domin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2.-</a:t>
            </a:r>
            <a:r>
              <a:rPr b="1" lang="es-MX" sz="24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Redise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ñ</a:t>
            </a: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ar.-</a:t>
            </a:r>
            <a:r>
              <a:rPr b="1" lang="es-MX" sz="24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Detalle del proceso.(participación de la Gent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3.- </a:t>
            </a: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Realizaci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ó</a:t>
            </a: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 .- Puesta en marcha.(involucramiento del Persona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 u="sng">
                <a:solidFill>
                  <a:srgbClr val="000000"/>
                </a:solidFill>
                <a:uFillTx/>
                <a:latin typeface="Arial"/>
              </a:rPr>
              <a:t>Notas</a:t>
            </a:r>
            <a:r>
              <a:rPr b="0" lang="es-MX" sz="24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Al enfocarse en el factor Humano es un modelo apropiado y adaptable en las organizaciones Mexican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Uno de sus puntos débiles a diferencia del modelo Americano es que cuestiona la implant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1"/>
          <a:stretch/>
        </p:blipFill>
        <p:spPr>
          <a:xfrm>
            <a:off x="7467480" y="5867280"/>
            <a:ext cx="990720" cy="5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26920" y="340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 u="sng">
                <a:solidFill>
                  <a:srgbClr val="000000"/>
                </a:solidFill>
                <a:uFillTx/>
                <a:latin typeface="Arial"/>
              </a:rPr>
              <a:t>5.3. Modelo Japonés.</a:t>
            </a: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con enfoque al Mercado).</a:t>
            </a: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539640" y="1484280"/>
            <a:ext cx="8280360" cy="49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1.- Identificaci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ó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n de </a:t>
            </a:r>
            <a:r>
              <a:rPr b="1" lang="es-MX" sz="2800" spc="-1" strike="noStrike" u="sng">
                <a:solidFill>
                  <a:srgbClr val="0000cc"/>
                </a:solidFill>
                <a:uFillTx/>
                <a:latin typeface="Arial"/>
              </a:rPr>
              <a:t>Sus Pasos :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0portunidades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. [como  localiza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grietas y áreas de mejora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2.- Desarrollo de estrategi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3.- Dise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ñ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o de estrategias para la operación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4.- Conservaci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ó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n y crecimiento del mercad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No se identifica como un modelo nato de Reingeniería, ya que en la cultura Japonesa es difícil que acepte este concepto como en Occiden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Su principal aportaci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ó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n es que se enfoca a un determinado nicho de Mercado, donde existen posibilidades de penetrar y hacer negocio  .-”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Business are Business “.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1"/>
          <a:stretch/>
        </p:blipFill>
        <p:spPr>
          <a:xfrm>
            <a:off x="7543800" y="6019920"/>
            <a:ext cx="914400" cy="54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116000" y="333360"/>
            <a:ext cx="73785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6. Metodolog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í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809640" y="141264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cc"/>
                </a:solidFill>
                <a:latin typeface="Arial"/>
              </a:rPr>
              <a:t>Mejora de Procesos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333333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Intervienen todos los integrantes de la Organización y se orientan hacia los consumidores y a los Proces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333333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La  mejora continua de los procesos cumplira una funci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ó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n integral en el éxito de los demás m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é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todos y procedimient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333333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Satisfacci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ó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n del cliente Interno y externo de la Organizaci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ó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333333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Dar un Valor agregado al trabajo. </a:t>
            </a: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“ &gt; productividad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7467480" y="5943600"/>
            <a:ext cx="990720" cy="6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16000" y="476280"/>
            <a:ext cx="73785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7.- Redise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Arial"/>
              </a:rPr>
              <a:t>ñ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o de Proces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809640" y="1557000"/>
            <a:ext cx="7958160" cy="36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333333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Se </a:t>
            </a:r>
            <a:r>
              <a:rPr b="1" lang="es-MX" sz="2400" spc="-1" strike="noStrike" u="sng">
                <a:solidFill>
                  <a:srgbClr val="000000"/>
                </a:solidFill>
                <a:uFillTx/>
                <a:latin typeface="Arial"/>
              </a:rPr>
              <a:t>concentra en los procesos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 mas importantes que rebasan los limites funciona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333333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Fundamentalmente se </a:t>
            </a:r>
            <a:r>
              <a:rPr b="1" lang="es-MX" sz="2400" spc="-1" strike="noStrike" u="sng">
                <a:solidFill>
                  <a:srgbClr val="000000"/>
                </a:solidFill>
                <a:uFillTx/>
                <a:latin typeface="Arial"/>
              </a:rPr>
              <a:t>orienta hacia el cliente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 y de manera continua se plantea la pregun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333333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3300"/>
                </a:solidFill>
                <a:latin typeface="Arial"/>
              </a:rPr>
              <a:t>¿EN VERDAD ES NECESARIO  HACER  ESTO....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333333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33cc"/>
                </a:solidFill>
                <a:latin typeface="Arial"/>
              </a:rPr>
              <a:t>! Se debe aplicar la actitud interrogante....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6705720" y="5105520"/>
            <a:ext cx="175248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99640" y="333360"/>
            <a:ext cx="737892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8. “ El Valor Agregado “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271080" y="1628640"/>
            <a:ext cx="864396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33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El Éxito del Negocio a través de un compromiso a la 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cc"/>
                </a:solidFill>
                <a:latin typeface="Arial"/>
              </a:rPr>
              <a:t>                      </a:t>
            </a:r>
            <a:r>
              <a:rPr b="0" lang="es-MX" sz="2800" spc="-1" strike="noStrike">
                <a:solidFill>
                  <a:srgbClr val="0000cc"/>
                </a:solidFill>
                <a:latin typeface="Arial"/>
              </a:rPr>
              <a:t>“ </a:t>
            </a:r>
            <a:r>
              <a:rPr b="1" lang="es-MX" sz="2800" spc="-1" strike="noStrike">
                <a:solidFill>
                  <a:srgbClr val="0000cc"/>
                </a:solidFill>
                <a:latin typeface="Arial"/>
              </a:rPr>
              <a:t>Excelente satisfacci</a:t>
            </a:r>
            <a:r>
              <a:rPr b="1" lang="es-ES" sz="2800" spc="-1" strike="noStrike">
                <a:solidFill>
                  <a:srgbClr val="0000cc"/>
                </a:solidFill>
                <a:latin typeface="Arial"/>
              </a:rPr>
              <a:t>ó</a:t>
            </a:r>
            <a:r>
              <a:rPr b="1" lang="es-MX" sz="2800" spc="-1" strike="noStrike">
                <a:solidFill>
                  <a:srgbClr val="0000cc"/>
                </a:solidFill>
                <a:latin typeface="Arial"/>
              </a:rPr>
              <a:t>n del Cliente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1" lang="es-MX" sz="2400" spc="-1" strike="noStrike">
                <a:solidFill>
                  <a:srgbClr val="006600"/>
                </a:solidFill>
                <a:latin typeface="Arial"/>
              </a:rPr>
              <a:t>Mediante la mejora de la Calidad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Productividad    +   Competitividad     +    Rentabilidad  =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Eliminación de costos y desperdicio =  + Utilidades.</a:t>
            </a:r>
            <a:r>
              <a:rPr b="1" lang="es-MX" sz="2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33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Sabiduría</a:t>
            </a: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para manejar la incertidumbre del cambio y del tiempo.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`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5638680" y="601992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6783480" y="5381640"/>
            <a:ext cx="1674720" cy="12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26560" y="259920"/>
            <a:ext cx="7378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9. Redise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Arial"/>
              </a:rPr>
              <a:t>ñ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o del trabajo.</a:t>
            </a:r>
            <a:br>
              <a:rPr sz="3200"/>
            </a:b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(Especifico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07640" y="1625760"/>
            <a:ext cx="88930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499"/>
              </a:spcBef>
              <a:buClr>
                <a:srgbClr val="3333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s el proceso de cambiar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1" lang="es-MX" sz="2000" spc="-1" strike="noStrike" u="sng">
                <a:solidFill>
                  <a:srgbClr val="000000"/>
                </a:solidFill>
                <a:uFillTx/>
                <a:latin typeface="Arial"/>
              </a:rPr>
              <a:t>actitud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del personal; por el  “</a:t>
            </a:r>
            <a:r>
              <a:rPr b="1" lang="es-MX" sz="2000" spc="-1" strike="noStrike" u="sng">
                <a:solidFill>
                  <a:srgbClr val="000000"/>
                </a:solidFill>
                <a:uFillTx/>
                <a:latin typeface="Arial"/>
              </a:rPr>
              <a:t>como “Si 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la manera de ejecutar una serie de actividades, con objeto de mejora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la productividad  y Calid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499"/>
              </a:spcBef>
              <a:buClr>
                <a:srgbClr val="3333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Crear 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responsabilidades  compartidas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 y  proporcionar 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mejores oportunidades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y  puestos de trabajo para las person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499"/>
              </a:spcBef>
              <a:buClr>
                <a:srgbClr val="3333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La característica  m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s singular de este proceso es que en vez de involucrar  exclusivamente a 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expertos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o  ejecutivos de alto nivel, estimula que los empleados de todos los niveles y  funciones -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participen en el proceso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para recomendar cambios en el dise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ñ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o de sus actividad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499"/>
              </a:spcBef>
              <a:buClr>
                <a:srgbClr val="3333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De esta manera se obtiene mas informaci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ó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n, se cuenta con la participaci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ó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n de los que están involucrados en la acci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ó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451"/>
              </a:spcBef>
              <a:buClr>
                <a:srgbClr val="3333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Se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promueve un compromiso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mas efectivo de todos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.(continua......)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7391520" y="6019920"/>
            <a:ext cx="1066680" cy="53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793800" y="1886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9. </a:t>
            </a:r>
            <a:r>
              <a:rPr b="0" lang="es-MX" sz="3200" spc="-1" strike="noStrike" u="sng">
                <a:solidFill>
                  <a:srgbClr val="000000"/>
                </a:solidFill>
                <a:uFillTx/>
                <a:latin typeface="Arial"/>
              </a:rPr>
              <a:t>Redise</a:t>
            </a:r>
            <a:r>
              <a:rPr b="0" lang="es-E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ñ</a:t>
            </a:r>
            <a:r>
              <a:rPr b="0" lang="es-MX" sz="3200" spc="-1" strike="noStrike" u="sng">
                <a:solidFill>
                  <a:srgbClr val="000000"/>
                </a:solidFill>
                <a:uFillTx/>
                <a:latin typeface="Arial"/>
              </a:rPr>
              <a:t>o del trabajo.</a:t>
            </a:r>
            <a:br>
              <a:rPr sz="3200"/>
            </a:b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Conceptos Cla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88200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421200" indent="-421200">
              <a:lnSpc>
                <a:spcPct val="80000"/>
              </a:lnSpc>
              <a:spcBef>
                <a:spcPts val="601"/>
              </a:spcBef>
              <a:buClr>
                <a:srgbClr val="3333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 u="sng">
                <a:solidFill>
                  <a:srgbClr val="000000"/>
                </a:solidFill>
                <a:uFillTx/>
                <a:latin typeface="Arial"/>
              </a:rPr>
              <a:t>Conceptos clav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120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421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*   Todos los miembros de la organización tienen que estar involucrados 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1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comprometidos para asegurar resultados óptimos.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1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*   Establecer y observar las 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especificaciones criticas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para lograr el éxit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1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*  Cada empleado 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ayuda a  redise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ñ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ar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su propio trabaj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1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*  Se 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redise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ñ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an sistemas completos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, no tareas de individuales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1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*  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Redise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ñ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os diferentes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igual a resultados iguales, (existen muchas    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1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maneras de llegar a un mismo fin y estandarizar procesos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1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*  Minimizar 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Especificaciones criticas.-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el numero de elementos de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1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redise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ñ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o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necesarios  para entrar en producción, con el mínim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1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*  Desarrollo de 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habilidades y de creatividad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sin limi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1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*  Centrarse en el 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futuro potencial,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especialmente en las exigencias del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1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clien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1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*  El Objetivo desarrollar un sistema capaz de proporcionar 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aprendizaje 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1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mejora- continua,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no es un rediseño ni reestructura [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no es 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maquillaje].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1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7956720" y="5950080"/>
            <a:ext cx="914400" cy="547560"/>
          </a:xfrm>
          <a:prstGeom prst="rect">
            <a:avLst/>
          </a:prstGeom>
          <a:ln w="0">
            <a:noFill/>
          </a:ln>
        </p:spPr>
      </p:pic>
      <p:sp>
        <p:nvSpPr>
          <p:cNvPr id="343" name=""/>
          <p:cNvSpPr/>
          <p:nvPr/>
        </p:nvSpPr>
        <p:spPr>
          <a:xfrm>
            <a:off x="395280" y="5661000"/>
            <a:ext cx="7920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 u="sng">
                <a:solidFill>
                  <a:srgbClr val="0000cc"/>
                </a:solidFill>
                <a:uFillTx/>
                <a:latin typeface="Arial"/>
              </a:rPr>
              <a:t> </a:t>
            </a:r>
            <a:r>
              <a:rPr b="1" lang="es-MX" sz="2400" spc="-1" strike="noStrike">
                <a:solidFill>
                  <a:srgbClr val="0000cc"/>
                </a:solidFill>
                <a:latin typeface="Arial"/>
              </a:rPr>
              <a:t>“ </a:t>
            </a:r>
            <a:r>
              <a:rPr b="1" lang="es-MX" sz="2400" spc="-1" strike="noStrike">
                <a:solidFill>
                  <a:srgbClr val="0000cc"/>
                </a:solidFill>
                <a:latin typeface="Arial"/>
              </a:rPr>
              <a:t>Resultados contundentes e impactantes 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[Productividad, Eficiencia, menores costos, minimizar desperdici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y  tiempos, simplificación del trabajo, Creación  de valor etc.]</a:t>
            </a:r>
            <a:r>
              <a:rPr b="1" lang="es-MX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93800" y="4759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10. Porque surgió la Reingenieria de Procesos ?</a:t>
            </a: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08000" y="1819080"/>
            <a:ext cx="9036000" cy="48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33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¿</a:t>
            </a: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Cuestiona las practicas y la conduct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Tradicionales de la dirección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33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¡ </a:t>
            </a: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Rompe Paradigmas y costumbres.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hábitos y rutinas!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33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¡ N</a:t>
            </a: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uevo enfoque en el</a:t>
            </a: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 “Servicio al Cliente”,       .  y en los procesos de negocios; estimula   -  el pensamiento central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6" name="" descr=""/>
          <p:cNvPicPr/>
          <p:nvPr/>
        </p:nvPicPr>
        <p:blipFill>
          <a:blip r:embed="rId1"/>
          <a:stretch/>
        </p:blipFill>
        <p:spPr>
          <a:xfrm>
            <a:off x="7543800" y="6019920"/>
            <a:ext cx="914400" cy="54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809280" y="1681200"/>
            <a:ext cx="8010360" cy="477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3333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Definición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3333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Objetiv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3333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Alcance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3333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Riesg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3333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Modelos de Reingenierí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3333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Metodología,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so y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plicación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3333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Redise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ñ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o de Proces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3333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Valor Agregado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3333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Redise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ñ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o del Trabaj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3333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Porque surgió la Reingeniería de Proces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3333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Nuevos factor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3333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Comprensi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ó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51"/>
              </a:spcBef>
              <a:buClr>
                <a:srgbClr val="333333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Continua…………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26560" y="259920"/>
            <a:ext cx="7543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11. Nuevos factor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809640" y="907920"/>
            <a:ext cx="7866000" cy="595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333333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Recursos de mayor y mejor capacidad, conocimientos y habilidades de la fuerza laboral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333333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Unión de fuerzas entre pensadores y realizadores.- [ejecutores]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333333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Enfoque en el servicio y satisfacci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ó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n:  Proveedor-- Cliente interno y externo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333333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mpowerment.- [facultar al personal para que tome decisiones]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333333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lan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ción Estratégica.-[desarrollo de Misión, visión, valores y estrategias hacia el futuro]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333333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Out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ourcing.-[descentralizar las funciones que no generen  ni agregan valor]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333333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Desarrollo del Liderazgo [ Leader Ship]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333333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Cultura de la Calidad [con sistemas de calidad y de mejora continua]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333333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Auxiliarse c/ las 7 herramientas adminiativas(5-S+1) y Hoshin Kanri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333333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Aplicar Tecnologías de  la Informaci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ó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n [T.I. / Internet ).- manejo de- informaci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ó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n en tiempo virtual Vs. Real; b2b.; c2c.; b2c.,  etc.]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333333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Rearquitectura.- proceso para redise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ñ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ar y alineamiento con todos elementos que afectan el desempeño presente y futuro de la Organiza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9" name="" descr=""/>
          <p:cNvPicPr/>
          <p:nvPr/>
        </p:nvPicPr>
        <p:blipFill>
          <a:blip r:embed="rId1"/>
          <a:stretch/>
        </p:blipFill>
        <p:spPr>
          <a:xfrm>
            <a:off x="7667640" y="476280"/>
            <a:ext cx="99072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/>
          </p:nvPr>
        </p:nvSpPr>
        <p:spPr>
          <a:xfrm>
            <a:off x="304560" y="1915920"/>
            <a:ext cx="82278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499"/>
              </a:spcBef>
              <a:buClr>
                <a:srgbClr val="333333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La Organización  tradicional  esta estructurada  por funciones, de tal forma que se obstaculizan y con frecuencia se ocultan los procesos fundamentales que impulsan el desempe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ñ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o y satisfacci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ó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n de los clien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333333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En ocasiones quienes participan en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reas funcionales a veces concentran su aportaci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ó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n al proceso y no a los verdaderos objetivos de la organiz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333333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Se debe cambiar y enfocar para generar y  entregar bienes y Servicios que complazcan a los Clientes internos y externos, en forma satisfactoria, en tiempo y con calidad tot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title"/>
          </p:nvPr>
        </p:nvSpPr>
        <p:spPr>
          <a:xfrm>
            <a:off x="826560" y="404280"/>
            <a:ext cx="7378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12.Comprensión.</a:t>
            </a:r>
            <a:br>
              <a:rPr sz="3200"/>
            </a:br>
            <a:r>
              <a:rPr b="1" lang="es-MX" sz="2400" spc="-1" strike="noStrike">
                <a:solidFill>
                  <a:srgbClr val="0000cc"/>
                </a:solidFill>
                <a:latin typeface="Arial"/>
              </a:rPr>
              <a:t>“Cambio de Cultura organizacional”.</a:t>
            </a: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684360" y="5568840"/>
            <a:ext cx="7391160" cy="96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0000"/>
                </a:solidFill>
                <a:latin typeface="Arial"/>
              </a:rPr>
              <a:t>             </a:t>
            </a:r>
            <a:r>
              <a:rPr b="1" lang="es-ES" sz="2400" spc="-1" strike="noStrike">
                <a:solidFill>
                  <a:srgbClr val="ff0000"/>
                </a:solidFill>
                <a:latin typeface="Arial"/>
              </a:rPr>
              <a:t>! </a:t>
            </a:r>
            <a:r>
              <a:rPr b="1" lang="es-MX" sz="2400" spc="-1" strike="noStrike">
                <a:solidFill>
                  <a:srgbClr val="ff0000"/>
                </a:solidFill>
                <a:latin typeface="Arial"/>
              </a:rPr>
              <a:t>Aplicar actitud interrogante</a:t>
            </a:r>
            <a:r>
              <a:rPr b="1" lang="es-ES" sz="2400" spc="-1" strike="noStrike">
                <a:solidFill>
                  <a:srgbClr val="ff0000"/>
                </a:solidFill>
                <a:latin typeface="Arial"/>
              </a:rPr>
              <a:t>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0000"/>
                </a:solidFill>
                <a:latin typeface="Arial"/>
              </a:rPr>
              <a:t>|Que? porque? como?, cuando?, donde?, qui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3" name="" descr=""/>
          <p:cNvPicPr/>
          <p:nvPr/>
        </p:nvPicPr>
        <p:blipFill>
          <a:blip r:embed="rId1"/>
          <a:stretch/>
        </p:blipFill>
        <p:spPr>
          <a:xfrm>
            <a:off x="7885080" y="5589720"/>
            <a:ext cx="990720" cy="53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/>
          </p:nvPr>
        </p:nvSpPr>
        <p:spPr>
          <a:xfrm>
            <a:off x="457200" y="936720"/>
            <a:ext cx="829152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333333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33cc"/>
                </a:solidFill>
                <a:latin typeface="Arial"/>
              </a:rPr>
              <a:t>Definici</a:t>
            </a:r>
            <a:r>
              <a:rPr b="1" lang="es-ES" sz="2400" spc="-1" strike="noStrike">
                <a:solidFill>
                  <a:srgbClr val="0033cc"/>
                </a:solidFill>
                <a:latin typeface="Arial"/>
              </a:rPr>
              <a:t>ó</a:t>
            </a:r>
            <a:r>
              <a:rPr b="1" lang="es-MX" sz="2400" spc="-1" strike="noStrike">
                <a:solidFill>
                  <a:srgbClr val="0033cc"/>
                </a:solidFill>
                <a:latin typeface="Arial"/>
              </a:rPr>
              <a:t>n de Sistem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333333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Serie de elementos relacionados entre si, que tienen Objetivo bien definido y concre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333333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Es un plan para realizar el trabajo en forma efectiva y eficien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333333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33cc"/>
                </a:solidFill>
                <a:latin typeface="Arial"/>
              </a:rPr>
              <a:t>Como identificar un sistem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333333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Debe tener un Objetivo.- un inicio definido, un proceso  y un  final clar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333333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uede incluir subsistemas.- conectores con otros sistemas o proces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333333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33cc"/>
                </a:solidFill>
                <a:latin typeface="Arial"/>
              </a:rPr>
              <a:t>Elementos que incluye: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333333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* Físico.-(papel,formas,equipo,materiales,instalaciones, etc.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333333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* Información.- (reportes,indicadores, graficas, métodos, Políticas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y Procedimientos, diagramas, histogramas etc.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333333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* Humano.-Quien hace...;realización..(que) relaciones..(cuando y como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333333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(continua....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title"/>
          </p:nvPr>
        </p:nvSpPr>
        <p:spPr>
          <a:xfrm>
            <a:off x="793800" y="259920"/>
            <a:ext cx="73785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13. Herramientas de aplica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429000" y="5522760"/>
            <a:ext cx="487692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7" name="" descr=""/>
          <p:cNvPicPr/>
          <p:nvPr/>
        </p:nvPicPr>
        <p:blipFill>
          <a:blip r:embed="rId1"/>
          <a:stretch/>
        </p:blipFill>
        <p:spPr>
          <a:xfrm>
            <a:off x="7467480" y="6095880"/>
            <a:ext cx="99072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/>
          </p:nvPr>
        </p:nvSpPr>
        <p:spPr>
          <a:xfrm>
            <a:off x="533520" y="980640"/>
            <a:ext cx="8229600" cy="58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333333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 u="sng">
                <a:solidFill>
                  <a:srgbClr val="000000"/>
                </a:solidFill>
                <a:uFillTx/>
                <a:latin typeface="Arial"/>
              </a:rPr>
              <a:t>Procedimient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333333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Reflejo escrito del sistema, que explica a las personas, paso a paso, la manera de realizar el trabajo en forma eficiente, efectiva y controlad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333333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33cc"/>
                </a:solidFill>
                <a:latin typeface="Arial"/>
              </a:rPr>
              <a:t>Creativida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333333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Proceso por el cual el individuo descubre leyes científicas, desarrolla Arte, inventa maquinas, produce trabajo intelectual y físico, en beneficio del bienestar de la Humanida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333333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Acto de generar y  producir informaci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ó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n, datos bienes y productos  y probar que son objetivamente ciert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333333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Capacidad para generar nueva inteligencia y obtenerla para beneficio de ot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333333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33cc"/>
                </a:solidFill>
                <a:latin typeface="Arial"/>
              </a:rPr>
              <a:t>Inteligenci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333333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Es la capacidad de predecir y controlar el medio ambiente físico, biológico,  Científico y psicosoci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333333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33cc"/>
                </a:solidFill>
                <a:latin typeface="Arial"/>
              </a:rPr>
              <a:t>Étic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333333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Conjunto de Valores  y principios; objetivos; de verdades, practica del bien y servicio comú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333333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continua…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937800" y="189000"/>
            <a:ext cx="73789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0000"/>
                </a:solidFill>
                <a:latin typeface="Arial"/>
              </a:rPr>
              <a:t>13. Herramientas de aplicación..</a:t>
            </a:r>
            <a:r>
              <a:rPr b="0" lang="es-MX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7467480" y="6095880"/>
            <a:ext cx="99072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/>
          </p:nvPr>
        </p:nvSpPr>
        <p:spPr>
          <a:xfrm>
            <a:off x="468360" y="549360"/>
            <a:ext cx="822960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333333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 u="sng">
                <a:solidFill>
                  <a:srgbClr val="0000cc"/>
                </a:solidFill>
                <a:uFillTx/>
                <a:latin typeface="Arial"/>
              </a:rPr>
              <a:t>Desarrollo de Valor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333333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Valores Empresariales [aplicar Administraci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ó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n  y Planeaci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ó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n Estratégica]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333333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El cliente, el producto, el servicio a la comunidad, la naturalez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333333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Rendir siempre el mas alto grado de competenc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333333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Tomar la iniciativa y Tomar riesg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333333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Adaptarse al cambi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333333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Tomar decisiones.- [en beneficio común]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333333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Trabajar en cooperaci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ó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n, como Equip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333333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Actuar y ser abiertos, especialmente en cuanto al manejo de informaci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ó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n; a la-  transmisión de noticias sobre problemas actuales y consecuencias futur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333333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Confiar y ser dignos de confianza (base de la Ética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333333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Respetar a los demás (clientes, Proveedores, y colegas),incluye el respeto propi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333333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Responder de nuestros actos, aceptar la responsabilida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333333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Juzgar y ser juzgados, recompensar y ser recompensados de acuerdo al rendimiento, actitud  y actuación [código de Ética y leyes]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title"/>
          </p:nvPr>
        </p:nvSpPr>
        <p:spPr>
          <a:xfrm>
            <a:off x="826560" y="-27360"/>
            <a:ext cx="73789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13. Herramientas de aplica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429000" y="5522760"/>
            <a:ext cx="487692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4" name="" descr=""/>
          <p:cNvPicPr/>
          <p:nvPr/>
        </p:nvPicPr>
        <p:blipFill>
          <a:blip r:embed="rId1"/>
          <a:stretch/>
        </p:blipFill>
        <p:spPr>
          <a:xfrm>
            <a:off x="7467480" y="6095880"/>
            <a:ext cx="99072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826560" y="404280"/>
            <a:ext cx="73789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14. Procesos y simplifica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250920" y="1076400"/>
            <a:ext cx="8424720" cy="57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3333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cc"/>
                </a:solidFill>
                <a:latin typeface="Arial"/>
              </a:rPr>
              <a:t>Proceso primario.-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s una serie de acciones sistemáticas que cruzan de manera horizontal diversas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reas de la empresa y que, por lo tanto son intrínsicamente multifunciona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333333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cc"/>
                </a:solidFill>
                <a:latin typeface="Arial"/>
              </a:rPr>
              <a:t>Proceso de apoyo.-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Conjunto de acciones sistemáticas que se realizan dentro de una sola unidad funcional de la Organiz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333333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cc"/>
                </a:solidFill>
                <a:latin typeface="Arial"/>
              </a:rPr>
              <a:t>Simplificar.-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 Eliminar tareas y actividades innecesarias que !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No dan valor agregado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a la tarea !,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ni cumple los deseos y expectativas del clien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333333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Debemos </a:t>
            </a:r>
            <a:r>
              <a:rPr b="1" lang="es-MX" sz="1800" spc="-1" strike="noStrike">
                <a:solidFill>
                  <a:srgbClr val="0000cc"/>
                </a:solidFill>
                <a:latin typeface="Arial"/>
              </a:rPr>
              <a:t>identificar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que es lo 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importante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, por eso se debe reconocer y eliminar lo que destruye 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 Valor en el proceso como: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. (cuellos de botella, almacenajes innecesarios, archivos y demoras injustificadas e improductiva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333333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El </a:t>
            </a:r>
            <a:r>
              <a:rPr b="1" lang="es-MX" sz="1800" spc="-1" strike="noStrike">
                <a:solidFill>
                  <a:srgbClr val="0000cc"/>
                </a:solidFill>
                <a:latin typeface="Arial"/>
              </a:rPr>
              <a:t>Valor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 lo define el cliente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(interno y externo); así como otros factores (empleados, propietarios, inversionistas  y autoridad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333333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Aplicar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1800" spc="-1" strike="noStrike">
                <a:solidFill>
                  <a:srgbClr val="0000cc"/>
                </a:solidFill>
                <a:latin typeface="Arial"/>
              </a:rPr>
              <a:t>Actitud Interrogante: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examinar el trazado del proceso? Podemos acortarlo..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333333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1800" spc="-1" strike="noStrike">
                <a:solidFill>
                  <a:srgbClr val="0000cc"/>
                </a:solidFill>
                <a:latin typeface="Arial"/>
              </a:rPr>
              <a:t>! eliminar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dualidades, demoras y repeticiones! Combinar operaciones! mejorar el manejo,  automatizarlo  o  robotizarlo 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7467480" y="6095880"/>
            <a:ext cx="99072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826920" y="333360"/>
            <a:ext cx="723276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Arial"/>
              </a:rPr>
              <a:t>15. Herramientas Auxiliar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es-MX" sz="2000" spc="-1" strike="noStrike">
                <a:solidFill>
                  <a:srgbClr val="0000cc"/>
                </a:solidFill>
                <a:latin typeface="Arial"/>
              </a:rPr>
              <a:t>A).-</a:t>
            </a:r>
            <a:r>
              <a:rPr b="1" lang="es-MX" sz="2400" spc="-1" strike="noStrike">
                <a:solidFill>
                  <a:srgbClr val="0000cc"/>
                </a:solidFill>
                <a:latin typeface="Arial"/>
              </a:rPr>
              <a:t> Diagramas de Proces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50920" y="1484280"/>
            <a:ext cx="864216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a)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de recorrido y de multicolumna. [simbología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OTIDA]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b) de Operación.(simbología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OTIDA]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c) de Distribuci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ó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n y flujo.-[simbología de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C.N.P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d) de Lógica y de Afinidad. .-[simbología de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C.N.P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) de Bloque e interrelaci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ó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n.-.-[simbología de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Sist. IBM.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f)  de An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lisis Causa           Raíz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(Ishikawa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g) de An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lisis de Fuerzas y Debilidades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(F.O.D.A.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h) Matricial y prioridades. .-[Herramientas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Japonesas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i)  Procesos y/o Árbol de decisi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ó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nes -[Herramientas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Administrativas]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j)  Radial. 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.-[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Herramientas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Administrativas]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K)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 Organigram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L)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  Dise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ñ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o y control de formas, registros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,  manejo de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Sistemas de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Archivo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y de almacenaje,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564000" y="350028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1"/>
          <a:stretch/>
        </p:blipFill>
        <p:spPr>
          <a:xfrm>
            <a:off x="7467480" y="6095880"/>
            <a:ext cx="99072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>
            <a:off x="1042920" y="1268280"/>
            <a:ext cx="734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cc"/>
                </a:solidFill>
                <a:latin typeface="Arial"/>
              </a:rPr>
              <a:t>1.-De Recorrido y de multicolumna.  [ simbología OTIDA ]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829080" y="692280"/>
            <a:ext cx="41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A).- Diagramas de Proceso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763640" y="2924280"/>
            <a:ext cx="157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Opera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836000" y="4545000"/>
            <a:ext cx="157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Inspec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835280" y="3753000"/>
            <a:ext cx="158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Transpor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1835640" y="5229360"/>
            <a:ext cx="119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Demor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837440" y="5883120"/>
            <a:ext cx="151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Almacenaj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O Archiv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826920" y="2997360"/>
            <a:ext cx="505080" cy="431640"/>
          </a:xfrm>
          <a:prstGeom prst="ellipse">
            <a:avLst/>
          </a:prstGeom>
          <a:solidFill>
            <a:srgbClr val="66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26920" y="3789360"/>
            <a:ext cx="576360" cy="431640"/>
          </a:xfrm>
          <a:prstGeom prst="rightArrow">
            <a:avLst>
              <a:gd name="adj1" fmla="val 50000"/>
              <a:gd name="adj2" fmla="val 33382"/>
            </a:avLst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26920" y="4583160"/>
            <a:ext cx="433440" cy="35856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826920" y="5300640"/>
            <a:ext cx="432000" cy="358920"/>
          </a:xfrm>
          <a:custGeom>
            <a:avLst/>
            <a:gdLst>
              <a:gd name="textAreaLeft" fmla="*/ 0 w 432000"/>
              <a:gd name="textAreaRight" fmla="*/ 432360 w 432000"/>
              <a:gd name="textAreaTop" fmla="*/ 0 h 358920"/>
              <a:gd name="textAreaBottom" fmla="*/ 359280 h 3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rot="10800000">
            <a:off x="684000" y="6092640"/>
            <a:ext cx="647640" cy="360360"/>
          </a:xfrm>
          <a:prstGeom prst="triangle">
            <a:avLst>
              <a:gd name="adj" fmla="val 50000"/>
            </a:avLst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908360" y="2239920"/>
            <a:ext cx="107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Orig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755640" y="2276640"/>
            <a:ext cx="720720" cy="287280"/>
          </a:xfrm>
          <a:prstGeom prst="triangle">
            <a:avLst>
              <a:gd name="adj" fmla="val 50000"/>
            </a:avLst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3761280" y="1940040"/>
            <a:ext cx="165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DESCRIPCIO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7055280" y="1940040"/>
            <a:ext cx="183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CLASIFICACIO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399480" y="2228760"/>
            <a:ext cx="181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Inicio del proces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3419640" y="2776680"/>
            <a:ext cx="3727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Proceso,  cambio de características-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Originales, modificación, valor añadid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400560" y="3645000"/>
            <a:ext cx="304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Manejo, traslado, llevar o trae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Cambio de dirección o de luga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401640" y="5943600"/>
            <a:ext cx="3555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Conservación, resguardo; protección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Temporal, provisional o definitiv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3399120" y="5157720"/>
            <a:ext cx="2485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Retraso, retardo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Intencional o involuntari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99480" y="4437000"/>
            <a:ext cx="3230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Revisión, verificación; comproba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Analizar, medir, evalua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7269840" y="6067440"/>
            <a:ext cx="169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Improductiv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198200" y="5348160"/>
            <a:ext cx="169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Improductiv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7198200" y="4575240"/>
            <a:ext cx="169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Improductiv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7185600" y="3573360"/>
            <a:ext cx="170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Improductivo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7185960" y="2900520"/>
            <a:ext cx="145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Productivo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7220520" y="2270160"/>
            <a:ext cx="13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necesari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/>
          <p:nvPr/>
        </p:nvSpPr>
        <p:spPr>
          <a:xfrm>
            <a:off x="324000" y="184320"/>
            <a:ext cx="8569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es-MX" sz="1600" spc="-1" strike="noStrike">
                <a:solidFill>
                  <a:srgbClr val="0000cc"/>
                </a:solidFill>
                <a:latin typeface="Arial"/>
              </a:rPr>
              <a:t>Diseño de procedimientos:</a:t>
            </a:r>
            <a:r>
              <a:rPr b="0" lang="es-MX" sz="1600" spc="-1" strike="noStrike">
                <a:solidFill>
                  <a:srgbClr val="0000cc"/>
                </a:solidFill>
                <a:latin typeface="Arial"/>
              </a:rPr>
              <a:t> Secuencia de operaciones, métodos, sistema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cc"/>
                </a:solidFill>
                <a:latin typeface="Arial"/>
              </a:rPr>
              <a:t>     </a:t>
            </a:r>
            <a:r>
              <a:rPr b="0" lang="es-MX" sz="1600" spc="-1" strike="noStrike">
                <a:solidFill>
                  <a:srgbClr val="0000cc"/>
                </a:solidFill>
                <a:latin typeface="Arial"/>
              </a:rPr>
              <a:t>estandarización. [diagramas y descripción del proceso o flujo de la información]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01" name=""/>
          <p:cNvGraphicFramePr/>
          <p:nvPr/>
        </p:nvGraphicFramePr>
        <p:xfrm>
          <a:off x="250920" y="1282680"/>
          <a:ext cx="4176720" cy="430704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282680"/>
                    <a:ext cx="4176720" cy="430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3" name=""/>
          <p:cNvSpPr/>
          <p:nvPr/>
        </p:nvSpPr>
        <p:spPr>
          <a:xfrm>
            <a:off x="1206720" y="-46080"/>
            <a:ext cx="180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04" name=""/>
          <p:cNvGraphicFramePr/>
          <p:nvPr/>
        </p:nvGraphicFramePr>
        <p:xfrm>
          <a:off x="4572000" y="1004760"/>
          <a:ext cx="4392720" cy="5158080"/>
        </p:xfrm>
        <a:graphic>
          <a:graphicData uri="http://schemas.openxmlformats.org/drawingml/2006/table">
            <a:tbl>
              <a:tblPr/>
              <a:tblGrid>
                <a:gridCol w="1698840"/>
                <a:gridCol w="2693880"/>
              </a:tblGrid>
              <a:tr h="7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SPONSABLE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pto. De Compras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trol y registro estadístico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CTIVIDAD   - ACCIO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1. -  Asigna y entrega a cada  Comprador por línea de producto, sus requisiciones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2.-.   Registra en el sistema datos estadísticos  de  las Rqs.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mprador Seguidor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3. - Verifica que los tiempos de necesidad del Solicitante estén dentro de los tiempos de entrega para requerimientos normales o “ Urgentes”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mprador Seguidor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4.-   </a:t>
                      </a:r>
                      <a:r>
                        <a:rPr b="0" lang="es-MX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 se detecta diferencia entre la fecha solicitada y la propuesta por el proveedor, notifica al solicitante  para obtener su aceptación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5.-  Solicita  3 cotizaciones con proveedores o prestadores de servicio, conforme a monto de compras, (anexo 2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6. - Recibe por escrito las cotizaciones, genera el cuadro comparativo, sugiere la mejor propuesta en función de precio, calidad, tiempos de entrega, condiciones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7. - Consulta Con su jefe y/o con el Usuario, las propuestas y recaba Vo.Bo, conforme a tabla de facultades para fincar Ordenes de Compra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8.  Elabora  en el Sistema, la </a:t>
                      </a:r>
                      <a:r>
                        <a:rPr b="1" lang="es-MX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rden de  Compra;(comp.4 a/e); </a:t>
                      </a:r>
                      <a:r>
                        <a:rPr b="0" lang="es-MX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nexa el cuadro comparativo y documentació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</a:t>
                      </a:r>
                      <a:r>
                        <a:rPr b="0" lang="es-MX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oporte (cotizaciones, catálogos dibujos etc.)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9.- Turna  todo el expediente al Gerente de Compras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10.-Si el monto de la compra es superior a $100,000.00 pesos o su equivalente en dólares, obtiene la autorización adicional del Gerente  de Administración y Finanzas de acuerdo a política.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9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erente de Compras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11. - Revisa la Documentación en caso de estar d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   </a:t>
                      </a:r>
                      <a:r>
                        <a:rPr b="0" lang="es-MX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cuerdo lo aprueba y Autoriza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 la regresa al comprador,  con observaciones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5" name=""/>
          <p:cNvSpPr/>
          <p:nvPr/>
        </p:nvSpPr>
        <p:spPr>
          <a:xfrm>
            <a:off x="4572000" y="836640"/>
            <a:ext cx="4572000" cy="540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/>
          <p:nvPr/>
        </p:nvSpPr>
        <p:spPr>
          <a:xfrm>
            <a:off x="298080" y="76320"/>
            <a:ext cx="7587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663300"/>
                </a:solidFill>
                <a:latin typeface="Arial"/>
              </a:rPr>
              <a:t>¿ </a:t>
            </a:r>
            <a:r>
              <a:rPr b="1" i="1" lang="es-ES_tradnl" sz="2000" spc="-1" strike="noStrike">
                <a:solidFill>
                  <a:srgbClr val="663300"/>
                </a:solidFill>
                <a:latin typeface="Arial"/>
              </a:rPr>
              <a:t>Porque las empresas pierden competitividad.......................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663300"/>
                </a:solidFill>
                <a:latin typeface="Arial"/>
              </a:rPr>
              <a:t>   </a:t>
            </a:r>
            <a:r>
              <a:rPr b="1" i="1" lang="es-ES_tradnl" sz="1800" spc="-1" strike="noStrike" u="sng">
                <a:solidFill>
                  <a:srgbClr val="663300"/>
                </a:solidFill>
                <a:uFillTx/>
                <a:latin typeface="Arial"/>
              </a:rPr>
              <a:t>Diagrama Causa Raíz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80880" y="3200400"/>
            <a:ext cx="6324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877080" y="2708280"/>
            <a:ext cx="2266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3300"/>
                </a:solidFill>
                <a:latin typeface="Arial"/>
              </a:rPr>
              <a:t>Perdida de competitividad y baja productivida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 flipH="1" flipV="1">
            <a:off x="1371240" y="1447920"/>
            <a:ext cx="1066680" cy="1752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 flipH="1" flipV="1">
            <a:off x="5028840" y="1676160"/>
            <a:ext cx="1143000" cy="1523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V="1">
            <a:off x="971640" y="3212640"/>
            <a:ext cx="1512720" cy="2273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V="1">
            <a:off x="4572000" y="3213000"/>
            <a:ext cx="1728720" cy="2362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55240" y="765000"/>
            <a:ext cx="22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 u="sng">
                <a:solidFill>
                  <a:srgbClr val="0033cc"/>
                </a:solidFill>
                <a:uFillTx/>
                <a:latin typeface="Arial"/>
              </a:rPr>
              <a:t> </a:t>
            </a:r>
            <a:r>
              <a:rPr b="1" lang="es-ES_tradnl" sz="1600" spc="-1" strike="noStrike" u="sng">
                <a:solidFill>
                  <a:srgbClr val="0033cc"/>
                </a:solidFill>
                <a:uFillTx/>
                <a:latin typeface="Arial"/>
              </a:rPr>
              <a:t>Recursos  Humano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250920" y="5613480"/>
            <a:ext cx="264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 u="sng">
                <a:solidFill>
                  <a:srgbClr val="0033cc"/>
                </a:solidFill>
                <a:uFillTx/>
                <a:latin typeface="Arial"/>
              </a:rPr>
              <a:t>Recursos Financieros 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6280200" y="3451320"/>
            <a:ext cx="1676520" cy="11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es-ES_tradnl" sz="1600" spc="-1" strike="noStrike" u="sng">
                <a:solidFill>
                  <a:srgbClr val="000000"/>
                </a:solidFill>
                <a:uFillTx/>
                <a:latin typeface="Times New Roman"/>
              </a:rPr>
              <a:t>Tecnología y especificaciones de proceso obsolet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119840" y="716040"/>
            <a:ext cx="228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 u="sng">
                <a:solidFill>
                  <a:srgbClr val="0033cc"/>
                </a:solidFill>
                <a:uFillTx/>
                <a:latin typeface="Arial"/>
              </a:rPr>
              <a:t>Recursos materiales 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51080" y="1052640"/>
            <a:ext cx="1954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 u="sng">
                <a:solidFill>
                  <a:srgbClr val="000000"/>
                </a:solidFill>
                <a:uFillTx/>
                <a:latin typeface="Times New Roman"/>
              </a:rPr>
              <a:t>Pecados capitales....¡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806480" y="1268280"/>
            <a:ext cx="2044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 u="sng">
                <a:solidFill>
                  <a:srgbClr val="000000"/>
                </a:solidFill>
                <a:uFillTx/>
                <a:latin typeface="Times New Roman"/>
              </a:rPr>
              <a:t>Carencia de Liderazgo, 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09520" y="2057400"/>
            <a:ext cx="154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 u="sng">
                <a:solidFill>
                  <a:srgbClr val="000000"/>
                </a:solidFill>
                <a:uFillTx/>
                <a:latin typeface="Times New Roman"/>
              </a:rPr>
              <a:t>Individualism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80880" y="3200400"/>
            <a:ext cx="1752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 u="sng">
                <a:solidFill>
                  <a:srgbClr val="000000"/>
                </a:solidFill>
                <a:uFillTx/>
                <a:latin typeface="Times New Roman"/>
              </a:rPr>
              <a:t>Hacer las cosas al ahí se va...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0" y="3789360"/>
            <a:ext cx="1676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 u="sng">
                <a:solidFill>
                  <a:srgbClr val="000000"/>
                </a:solidFill>
                <a:uFillTx/>
                <a:latin typeface="Times New Roman"/>
              </a:rPr>
              <a:t>Estados Financieros extemporáne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1690560" y="4332240"/>
            <a:ext cx="1657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Incumplimiento en presupuestos de  Oper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195640" y="3465360"/>
            <a:ext cx="15843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 u="sng">
                <a:solidFill>
                  <a:srgbClr val="000000"/>
                </a:solidFill>
                <a:uFillTx/>
                <a:latin typeface="Times New Roman"/>
              </a:rPr>
              <a:t>Deficiente flujo de caja?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24000" y="1916280"/>
            <a:ext cx="1657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 u="sng">
                <a:solidFill>
                  <a:srgbClr val="000000"/>
                </a:solidFill>
                <a:uFillTx/>
                <a:latin typeface="Times New Roman"/>
              </a:rPr>
              <a:t>Baja capacitación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429000" y="55609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 u="sng">
                <a:solidFill>
                  <a:srgbClr val="0033cc"/>
                </a:solidFill>
                <a:uFillTx/>
                <a:latin typeface="Arial"/>
              </a:rPr>
              <a:t>Recursos tecnológic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219640" y="981000"/>
            <a:ext cx="19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es-ES_tradnl" sz="1800" spc="-1" strike="noStrike" u="sng">
                <a:solidFill>
                  <a:srgbClr val="000000"/>
                </a:solidFill>
                <a:uFillTx/>
                <a:latin typeface="Times New Roman"/>
              </a:rPr>
              <a:t>Instalaciones  inapropiad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507480" y="4976640"/>
            <a:ext cx="119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 u="sng">
                <a:solidFill>
                  <a:srgbClr val="000000"/>
                </a:solidFill>
                <a:uFillTx/>
                <a:latin typeface="Times New Roman"/>
              </a:rPr>
              <a:t>Corrup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962520" y="1484280"/>
            <a:ext cx="10922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es-ES_tradnl" sz="1600" spc="-1" strike="noStrike" u="sng">
                <a:solidFill>
                  <a:srgbClr val="000000"/>
                </a:solidFill>
                <a:uFillTx/>
                <a:latin typeface="Times New Roman"/>
              </a:rPr>
              <a:t>Ceguera de tall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3657600" y="4038480"/>
            <a:ext cx="1905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 u="sng">
                <a:solidFill>
                  <a:srgbClr val="000000"/>
                </a:solidFill>
                <a:uFillTx/>
                <a:latin typeface="Times New Roman"/>
              </a:rPr>
              <a:t>Incultura de No Pago de nuestros compromiso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851280" y="2205000"/>
            <a:ext cx="1800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 u="sng">
                <a:solidFill>
                  <a:srgbClr val="000000"/>
                </a:solidFill>
                <a:uFillTx/>
                <a:latin typeface="Times New Roman"/>
              </a:rPr>
              <a:t>Deficiencias de mantenimiento¡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529240" y="1773360"/>
            <a:ext cx="278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Maquinaria y equipo.¡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-76320" y="144792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 u="sng">
                <a:solidFill>
                  <a:srgbClr val="ff3300"/>
                </a:solidFill>
                <a:uFillTx/>
                <a:latin typeface="Times New Roman"/>
              </a:rPr>
              <a:t>Falta de Valores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646440" y="3141720"/>
            <a:ext cx="2438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 u="sng">
                <a:solidFill>
                  <a:srgbClr val="000000"/>
                </a:solidFill>
                <a:uFillTx/>
                <a:latin typeface="Times New Roman"/>
              </a:rPr>
              <a:t>Deficie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 u="sng">
                <a:solidFill>
                  <a:srgbClr val="000000"/>
                </a:solidFill>
                <a:uFillTx/>
                <a:latin typeface="Times New Roman"/>
              </a:rPr>
              <a:t>Educación y preparación Técnica y Empresarial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04920" y="2514600"/>
            <a:ext cx="1981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 u="sng">
                <a:solidFill>
                  <a:srgbClr val="000000"/>
                </a:solidFill>
                <a:uFillTx/>
                <a:latin typeface="Times New Roman"/>
              </a:rPr>
              <a:t>Discapacidad para  proponer y decidi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6242040" y="4664160"/>
            <a:ext cx="2075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 u="sng">
                <a:solidFill>
                  <a:srgbClr val="000000"/>
                </a:solidFill>
                <a:uFillTx/>
                <a:latin typeface="Times New Roman"/>
              </a:rPr>
              <a:t>Incumplimiento en Calidad,  e impuntualidad  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es-ES_tradnl" sz="1600" spc="-1" strike="noStrike" u="sng">
                <a:solidFill>
                  <a:srgbClr val="000000"/>
                </a:solidFill>
                <a:uFillTx/>
                <a:latin typeface="Times New Roman"/>
              </a:rPr>
              <a:t>los embarqu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6719760" y="2798640"/>
            <a:ext cx="228600" cy="774720"/>
          </a:xfrm>
          <a:custGeom>
            <a:avLst/>
            <a:gdLst>
              <a:gd name="textAreaLeft" fmla="*/ 146160 w 228600"/>
              <a:gd name="textAreaRight" fmla="*/ 228960 w 228600"/>
              <a:gd name="textAreaTop" fmla="*/ 20160 h 774720"/>
              <a:gd name="textAreaBottom" fmla="*/ 754560 h 77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 flipH="1" flipV="1">
            <a:off x="1066680" y="2361960"/>
            <a:ext cx="9144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 flipV="1">
            <a:off x="1763640" y="1844280"/>
            <a:ext cx="6098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 flipV="1">
            <a:off x="2340000" y="2924280"/>
            <a:ext cx="647640" cy="21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flipH="1" flipV="1">
            <a:off x="1371600" y="2971440"/>
            <a:ext cx="99072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H="1" flipV="1">
            <a:off x="1447560" y="3733560"/>
            <a:ext cx="60948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H="1" flipV="1">
            <a:off x="761760" y="4571640"/>
            <a:ext cx="6094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 flipV="1">
            <a:off x="1835280" y="4005000"/>
            <a:ext cx="93636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 flipV="1">
            <a:off x="1187280" y="5084280"/>
            <a:ext cx="122400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 flipV="1">
            <a:off x="5148360" y="1557000"/>
            <a:ext cx="93492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V="1">
            <a:off x="5580000" y="2060280"/>
            <a:ext cx="64764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 flipH="1" flipV="1">
            <a:off x="4800240" y="2057040"/>
            <a:ext cx="6858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flipH="1" flipV="1">
            <a:off x="5148360" y="2637000"/>
            <a:ext cx="79200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 flipH="1" flipV="1">
            <a:off x="5076720" y="3860640"/>
            <a:ext cx="486000" cy="254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 flipV="1">
            <a:off x="5562720" y="4076280"/>
            <a:ext cx="80964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 flipV="1">
            <a:off x="4859280" y="5013360"/>
            <a:ext cx="136836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4190760" y="5333760"/>
            <a:ext cx="53316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 flipH="1" flipV="1">
            <a:off x="837720" y="1752480"/>
            <a:ext cx="76212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 flipV="1">
            <a:off x="5867280" y="2494080"/>
            <a:ext cx="72072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92600" y="2203560"/>
            <a:ext cx="205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imes New Roman"/>
              </a:rPr>
              <a:t>Insuficiente y defectuos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MX" sz="1400" spc="-1" strike="noStrike">
                <a:solidFill>
                  <a:srgbClr val="000000"/>
                </a:solidFill>
                <a:latin typeface="Times New Roman"/>
              </a:rPr>
              <a:t>materia pri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 flipV="1">
            <a:off x="2162160" y="2421000"/>
            <a:ext cx="39384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2463480" y="2550960"/>
            <a:ext cx="1607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imes New Roman"/>
              </a:rPr>
              <a:t>Bajos salarios 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MX" sz="1400" spc="-1" strike="noStrike">
                <a:solidFill>
                  <a:srgbClr val="000000"/>
                </a:solidFill>
                <a:latin typeface="Times New Roman"/>
              </a:rPr>
              <a:t>falta de incentiv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809640" y="2138040"/>
            <a:ext cx="7958160" cy="31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13. Herramientas de aplic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14. Procesos y simplific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15. Herramientas auxiliar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16.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onclusiones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17. Proyecto de Reingeniería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.-(detección de necesidades de capacitación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18.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Bibliografía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7315200" y="5562720"/>
            <a:ext cx="1143000" cy="77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466560" y="42840"/>
            <a:ext cx="8677440" cy="7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 u="sng">
                <a:solidFill>
                  <a:srgbClr val="0000cc"/>
                </a:solidFill>
                <a:uFillTx/>
                <a:latin typeface="Arial"/>
              </a:rPr>
              <a:t>Diagrama Radial</a:t>
            </a:r>
            <a:r>
              <a:rPr b="1" lang="es-MX" sz="2000" spc="-1" strike="noStrike" u="sng">
                <a:solidFill>
                  <a:srgbClr val="000000"/>
                </a:solidFill>
                <a:uFillTx/>
                <a:latin typeface="Arial"/>
              </a:rPr>
              <a:t>.-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jemplo: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Clasificar el desempeño Organizac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(para presentación de resultad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9" name=""/>
          <p:cNvGraphicFramePr/>
          <p:nvPr/>
        </p:nvGraphicFramePr>
        <p:xfrm>
          <a:off x="247680" y="692280"/>
          <a:ext cx="8800920" cy="6019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680" y="692280"/>
                    <a:ext cx="8800920" cy="601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1" name=""/>
          <p:cNvSpPr/>
          <p:nvPr/>
        </p:nvSpPr>
        <p:spPr>
          <a:xfrm>
            <a:off x="7009560" y="1622520"/>
            <a:ext cx="188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 u="sng">
                <a:solidFill>
                  <a:srgbClr val="000000"/>
                </a:solidFill>
                <a:uFillTx/>
                <a:latin typeface="Times New Roman"/>
              </a:rPr>
              <a:t>PARAMETRO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"/>
          <p:cNvSpPr/>
          <p:nvPr/>
        </p:nvSpPr>
        <p:spPr>
          <a:xfrm>
            <a:off x="971640" y="19080"/>
            <a:ext cx="67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15.-           B)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MX" sz="2400" spc="-1" strike="noStrike">
                <a:solidFill>
                  <a:srgbClr val="0000cc"/>
                </a:solidFill>
                <a:latin typeface="Arial"/>
              </a:rPr>
              <a:t>“ 13 Fundamentos”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179280" y="341280"/>
            <a:ext cx="8964720" cy="72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1)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2200" spc="-1" strike="noStrike" u="sng">
                <a:solidFill>
                  <a:srgbClr val="0000cc"/>
                </a:solidFill>
                <a:uFillTx/>
                <a:latin typeface="Arial"/>
              </a:rPr>
              <a:t>Empezar de “ O “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2) Cambios radicales,brutales y expectacula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3) Enfocarse a Procesos y no a departamentos o áreas, trabajos, personas 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estructur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4) Visión Holistica ( Del conocimiento)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5) Observar todos los procesos desde una perspectiva integral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, ( ver el todo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–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y  no solo las partes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6)  Los actores deben ser capaces de desempeñar mas de un Rol,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(multifuncionales y multihabilida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7) Apoyarse en el principio de la incertidumbre (teoría del caos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8) La destrucción creativa es la herramienta principal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9) No hay un 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“modelo de Reingenieria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”, ni hay un plan preestablecid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10) Lo mas importante es un cambio de mentalidad / enfoque (Metodologí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abierto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11) En la 1a parte debe realizarse de arriba hacia abajo,     apoyada por el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Líder de la Organización(requiere de apoyo y compromiso para prosperar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12) En la 2a fase requiere un impulso en sentido inverso,      convencimiento y                   -          compromiso ( amor a la camiseta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13)  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Si no estamos convencidos y comprometidos es mejor no hace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Reingenierí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5796000" y="508464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5" name="" descr=""/>
          <p:cNvPicPr/>
          <p:nvPr/>
        </p:nvPicPr>
        <p:blipFill>
          <a:blip r:embed="rId1"/>
          <a:stretch/>
        </p:blipFill>
        <p:spPr>
          <a:xfrm>
            <a:off x="7772400" y="6553080"/>
            <a:ext cx="685800" cy="304920"/>
          </a:xfrm>
          <a:prstGeom prst="rect">
            <a:avLst/>
          </a:prstGeom>
          <a:ln w="0">
            <a:noFill/>
          </a:ln>
        </p:spPr>
      </p:pic>
      <p:sp>
        <p:nvSpPr>
          <p:cNvPr id="466" name=""/>
          <p:cNvSpPr/>
          <p:nvPr/>
        </p:nvSpPr>
        <p:spPr>
          <a:xfrm flipV="1">
            <a:off x="5867280" y="566064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1763640" y="393840"/>
            <a:ext cx="6624720" cy="11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15. Herramientas Auxiliar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C).-</a:t>
            </a: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2400" spc="-1" strike="noStrike">
                <a:solidFill>
                  <a:srgbClr val="0000cc"/>
                </a:solidFill>
                <a:latin typeface="Arial"/>
              </a:rPr>
              <a:t>Convergencia de Resultad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555480" y="2125800"/>
            <a:ext cx="1843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9" name="" descr=""/>
          <p:cNvPicPr/>
          <p:nvPr/>
        </p:nvPicPr>
        <p:blipFill>
          <a:blip r:embed="rId1"/>
          <a:stretch/>
        </p:blipFill>
        <p:spPr>
          <a:xfrm>
            <a:off x="7620120" y="6019920"/>
            <a:ext cx="685800" cy="304560"/>
          </a:xfrm>
          <a:prstGeom prst="rect">
            <a:avLst/>
          </a:prstGeom>
          <a:ln w="0">
            <a:noFill/>
          </a:ln>
        </p:spPr>
      </p:pic>
      <p:sp>
        <p:nvSpPr>
          <p:cNvPr id="470" name=""/>
          <p:cNvSpPr/>
          <p:nvPr/>
        </p:nvSpPr>
        <p:spPr>
          <a:xfrm>
            <a:off x="253080" y="1960560"/>
            <a:ext cx="439416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Varios oficios se combinan en uno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Los trabajadores toman decisio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(Empowerment.Facultar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Los pasos del proceso se ejecut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en orden natura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Los procesos tienen múltiples versiones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El trabajo se realiza en el sitio razonabl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Se reducen las verificaciones y los controles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La conciliación se minimiz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Cambian las unidades de Trabajo, 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Departamentos funcionales a equipos 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Proceso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Los oficios cambian de tareas </a:t>
            </a:r>
            <a:r>
              <a:rPr b="1" lang="es-MX" sz="1600" spc="-1" strike="noStrike" u="sng">
                <a:solidFill>
                  <a:srgbClr val="000000"/>
                </a:solidFill>
                <a:uFillTx/>
                <a:latin typeface="Arial"/>
              </a:rPr>
              <a:t>simples </a:t>
            </a:r>
            <a:r>
              <a:rPr b="0" lang="es-MX" sz="1600" spc="-1" strike="noStrike" u="sng">
                <a:solidFill>
                  <a:srgbClr val="000000"/>
                </a:solidFill>
                <a:uFillTx/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Trabajos  multifuncionales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El papel del trabajador cambia de control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a facultado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4706640" y="2041560"/>
            <a:ext cx="4159800" cy="39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La preparación para el oficio cambia 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entrenamiento a educación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El enfoque de medidas de desempeño 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compensación se desplaza de activida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a resultados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Cambian los criterios de ascenso 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rendimiento a  </a:t>
            </a: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habilida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Los valores cambian de proteccionista 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Productivos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Los roles de los Gerentes cambian 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Supervisor a facilitador Coach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Las estructuras organizacionales cambi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de jerarquías a plana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Los ejecutivos cambian de Anotadores 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tantos a Lidere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179280" y="1916280"/>
            <a:ext cx="4392720" cy="4608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4608360" y="1916280"/>
            <a:ext cx="4427640" cy="4608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"/>
          <p:cNvSpPr/>
          <p:nvPr/>
        </p:nvSpPr>
        <p:spPr>
          <a:xfrm>
            <a:off x="1752480" y="317520"/>
            <a:ext cx="6858000" cy="16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15. Herramientas Auxiliares.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.      d.- “ Guia de Bolsillo</a:t>
            </a:r>
            <a:r>
              <a:rPr b="1" lang="es-MX" sz="2400" spc="-1" strike="noStrike">
                <a:solidFill>
                  <a:srgbClr val="0000cc"/>
                </a:solidFill>
                <a:latin typeface="Arial"/>
              </a:rPr>
              <a:t>”: </a:t>
            </a:r>
            <a:r>
              <a:rPr b="1" lang="es-MX" sz="1600" spc="-1" strike="noStrike">
                <a:solidFill>
                  <a:srgbClr val="0000cc"/>
                </a:solidFill>
                <a:latin typeface="Arial"/>
              </a:rPr>
              <a:t>Nota.-No existe una metodologia rigida que se pueda aplicar a todo tipo de empresa, pero si una serie de principios que deben responder a las necesidades de toda Organizació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65400" y="1905120"/>
            <a:ext cx="4195080" cy="453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 u="sng">
                <a:solidFill>
                  <a:srgbClr val="000000"/>
                </a:solidFill>
                <a:uFillTx/>
                <a:latin typeface="Arial"/>
              </a:rPr>
              <a:t>Preparación.-</a:t>
            </a:r>
            <a:r>
              <a:rPr b="0" lang="es-MX" sz="1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Reconocer la necesidad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Desarrollar un consenso  Ejecutiv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Capacitar al Equipo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Planificar el cambio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Seleccionar y capacitar al equipo de Ingeniería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Desarrollar el Documento Plan de cambio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(pacto entre la Dirección y el Equipo de Ingenierí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Comunicar el cambio a todos en la Organizació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 u="sng">
                <a:solidFill>
                  <a:srgbClr val="000000"/>
                </a:solidFill>
                <a:uFillTx/>
                <a:latin typeface="Arial"/>
              </a:rPr>
              <a:t>Identificación 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Modular clientes (Pareto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Definir y medir rendimiento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Definir entidades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Modular procesos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Identificar actividades desde el punto de vis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Del Cliente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Entender el modelo de Proceso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Correlacionar la Organización y los recursos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Fijar prioridades de Procesos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Identificar los procesos medulares de la Org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4699080" y="1905120"/>
            <a:ext cx="3710160" cy="453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 u="sng">
                <a:solidFill>
                  <a:srgbClr val="000000"/>
                </a:solidFill>
                <a:uFillTx/>
                <a:latin typeface="Arial"/>
              </a:rPr>
              <a:t>Visió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Entender la estructura del proceso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Entender el flujo del proceso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Identificar actividades de Valor Agregado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Documentar las referencias de rendimient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Determinar impulsores de rendimiento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Calcular la oportunidad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Visualizar la escena ideal Externa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Visualizar la escena ideal Interna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Integrar los escenarios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Definir subdivision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 u="sng">
                <a:solidFill>
                  <a:srgbClr val="000000"/>
                </a:solidFill>
                <a:uFillTx/>
                <a:latin typeface="Arial"/>
              </a:rPr>
              <a:t>Solución de diseño Técnico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Modular relaciones de entidades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Reexaminar relaciones de los Procesos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Instrumentar e informar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Consolidar intereses e informació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Redefinir alternativas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Reubicar y reprogramar controles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Modularizar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Definir la implementación.|     CONTINUA .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7" name="" descr=""/>
          <p:cNvPicPr/>
          <p:nvPr/>
        </p:nvPicPr>
        <p:blipFill>
          <a:blip r:embed="rId1"/>
          <a:stretch/>
        </p:blipFill>
        <p:spPr>
          <a:xfrm>
            <a:off x="8001000" y="6324480"/>
            <a:ext cx="68580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"/>
          <p:cNvSpPr/>
          <p:nvPr/>
        </p:nvSpPr>
        <p:spPr>
          <a:xfrm>
            <a:off x="1752480" y="317520"/>
            <a:ext cx="6858000" cy="16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15. Herramientas Auxiliares.          </a:t>
            </a: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.      e.- “ Guia de Bolsillo”: </a:t>
            </a:r>
            <a:r>
              <a:rPr b="1" lang="es-MX" sz="1600" spc="-1" strike="noStrike">
                <a:solidFill>
                  <a:srgbClr val="0000cc"/>
                </a:solidFill>
                <a:latin typeface="Arial"/>
              </a:rPr>
              <a:t>Nota.-No existe una metodologia rigida que se pueda aplicar a todo tipo de empresa, pero si una serie de principios que deben responder a las necesidades de toda Organizació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294120" y="2173320"/>
            <a:ext cx="4234680" cy="453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 u="sng">
                <a:solidFill>
                  <a:srgbClr val="000000"/>
                </a:solidFill>
                <a:uFillTx/>
                <a:latin typeface="Arial"/>
              </a:rPr>
              <a:t>Solución de diseño Técnico:(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Continua)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Aplicar tecnología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Planificar la implenetacio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Diseño del Documento Plan de Cambio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Comunicación a tod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Comprometer a todos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 u="sng">
                <a:solidFill>
                  <a:srgbClr val="000000"/>
                </a:solidFill>
                <a:uFillTx/>
                <a:latin typeface="Arial"/>
              </a:rPr>
              <a:t>Solución 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Facultar contactos con el Cliente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Precisar matrices de destrezas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Definir Roles por Equipos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Determinar necesidades de destrezas/Personal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Especificar la estructura Gerencial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Rediseñar fronteras Gerenciales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Especificar cambios de cargos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Diseñar planes de desarrollo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Definir la transición de la Organizació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Diseñar programa de gestión de cambio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Elaborar Plan de Incentivos y premios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Planificar la implementació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841640" y="2133720"/>
            <a:ext cx="4139640" cy="30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 u="sng">
                <a:solidFill>
                  <a:srgbClr val="000000"/>
                </a:solidFill>
                <a:uFillTx/>
                <a:latin typeface="Arial"/>
              </a:rPr>
              <a:t>Transformació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Completar el diseño del Sistema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Ejecutar el diseño técnico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Desarrollar planes de prueba de introducció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Evaluar al Personal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Construir Sistemas;</a:t>
            </a:r>
            <a:br>
              <a:rPr sz="1400"/>
            </a:b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Definir indicadores de actuació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Capacitar al personal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Realizar pruebas piloto del nuevo proceso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Refinanciamiento y  transició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Medición y evaluación de resultado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663300"/>
                </a:solidFill>
                <a:latin typeface="Arial"/>
              </a:rPr>
              <a:t>“ </a:t>
            </a:r>
            <a:r>
              <a:rPr b="1" lang="es-MX" sz="2400" spc="-1" strike="noStrike">
                <a:solidFill>
                  <a:srgbClr val="663300"/>
                </a:solidFill>
                <a:latin typeface="Arial"/>
              </a:rPr>
              <a:t>Plan de mejora continua</a:t>
            </a:r>
            <a:r>
              <a:rPr b="1" lang="es-MX" sz="2200" spc="-1" strike="noStrike">
                <a:solidFill>
                  <a:srgbClr val="663300"/>
                </a:solidFill>
                <a:latin typeface="Arial"/>
              </a:rPr>
              <a:t>”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1" name="" descr=""/>
          <p:cNvPicPr/>
          <p:nvPr/>
        </p:nvPicPr>
        <p:blipFill>
          <a:blip r:embed="rId1"/>
          <a:stretch/>
        </p:blipFill>
        <p:spPr>
          <a:xfrm>
            <a:off x="8001000" y="6324480"/>
            <a:ext cx="68580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0000"/>
                </a:solidFill>
                <a:latin typeface="Arial"/>
              </a:rPr>
              <a:t>16. Conclusio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533160" y="1546200"/>
            <a:ext cx="785484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33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Regla de  ORO”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2000" spc="-1" strike="noStrike">
                <a:solidFill>
                  <a:srgbClr val="0033cc"/>
                </a:solidFill>
                <a:latin typeface="Arial"/>
              </a:rPr>
              <a:t>“ </a:t>
            </a:r>
            <a:r>
              <a:rPr b="1" lang="es-ES" sz="2000" spc="-1" strike="noStrike">
                <a:solidFill>
                  <a:srgbClr val="0033cc"/>
                </a:solidFill>
                <a:latin typeface="Arial"/>
              </a:rPr>
              <a:t>Conservar lo critico y difícil</a:t>
            </a:r>
            <a:r>
              <a:rPr b="1" lang="es-MX" sz="2000" spc="-1" strike="noStrike">
                <a:solidFill>
                  <a:srgbClr val="0033cc"/>
                </a:solidFill>
                <a:latin typeface="Arial"/>
              </a:rPr>
              <a:t> “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Eliminar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lo</a:t>
            </a: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 innecesario,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lo que esta fuer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 del foco (objetivo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Lo que no da Valor agregado al Proceso y lo que encarezca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buscar la mejor Calidad</a:t>
            </a: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, eficiencia y Productividad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33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lave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333333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Actuar con inteligencia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y decidir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qué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se conserva y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qué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se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elimina  !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333333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La decisión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ó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lo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se puede tomar conociendo a fondo y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bien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nuestro negoci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33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Empresa Inteligente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333333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s la organización que posee </a:t>
            </a: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las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habilidades para crear, adquirir</a:t>
            </a: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y transferir conocimiento.Tiene también la habilidad para modificar su conducta (su manera de hacer las cosas)</a:t>
            </a: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;  y como efecto 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808080"/>
                </a:solidFill>
                <a:latin typeface="Arial"/>
              </a:rPr>
              <a:t>   </a:t>
            </a:r>
            <a:r>
              <a:rPr b="1" lang="es-ES" sz="2000" spc="-1" strike="noStrike">
                <a:solidFill>
                  <a:srgbClr val="0033cc"/>
                </a:solidFill>
                <a:latin typeface="Arial"/>
              </a:rPr>
              <a:t>“ </a:t>
            </a:r>
            <a:r>
              <a:rPr b="1" lang="es-ES" sz="2000" spc="-1" strike="noStrike">
                <a:solidFill>
                  <a:srgbClr val="0033cc"/>
                </a:solidFill>
                <a:latin typeface="Arial"/>
              </a:rPr>
              <a:t>Haber adquirido nuevos conocimientos y puntos de vista”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4" name="" descr=""/>
          <p:cNvPicPr/>
          <p:nvPr/>
        </p:nvPicPr>
        <p:blipFill>
          <a:blip r:embed="rId1"/>
          <a:stretch/>
        </p:blipFill>
        <p:spPr>
          <a:xfrm>
            <a:off x="2514600" y="2057400"/>
            <a:ext cx="298440" cy="351000"/>
          </a:xfrm>
          <a:prstGeom prst="rect">
            <a:avLst/>
          </a:prstGeom>
          <a:ln w="0">
            <a:noFill/>
          </a:ln>
        </p:spPr>
      </p:pic>
      <p:pic>
        <p:nvPicPr>
          <p:cNvPr id="485" name="" descr=""/>
          <p:cNvPicPr/>
          <p:nvPr/>
        </p:nvPicPr>
        <p:blipFill>
          <a:blip r:embed="rId2"/>
          <a:stretch/>
        </p:blipFill>
        <p:spPr>
          <a:xfrm>
            <a:off x="1995480" y="3276720"/>
            <a:ext cx="366840" cy="380880"/>
          </a:xfrm>
          <a:prstGeom prst="rect">
            <a:avLst/>
          </a:prstGeom>
          <a:ln w="0">
            <a:noFill/>
          </a:ln>
        </p:spPr>
      </p:pic>
      <p:pic>
        <p:nvPicPr>
          <p:cNvPr id="486" name="" descr=""/>
          <p:cNvPicPr/>
          <p:nvPr/>
        </p:nvPicPr>
        <p:blipFill>
          <a:blip r:embed="rId3"/>
          <a:stretch/>
        </p:blipFill>
        <p:spPr>
          <a:xfrm>
            <a:off x="3600360" y="4191120"/>
            <a:ext cx="339840" cy="457200"/>
          </a:xfrm>
          <a:prstGeom prst="rect">
            <a:avLst/>
          </a:prstGeom>
          <a:ln w="0">
            <a:noFill/>
          </a:ln>
        </p:spPr>
      </p:pic>
      <p:pic>
        <p:nvPicPr>
          <p:cNvPr id="487" name="" descr=""/>
          <p:cNvPicPr/>
          <p:nvPr/>
        </p:nvPicPr>
        <p:blipFill>
          <a:blip r:embed="rId4"/>
          <a:stretch/>
        </p:blipFill>
        <p:spPr>
          <a:xfrm>
            <a:off x="7467480" y="6095880"/>
            <a:ext cx="99072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8" name="" descr=""/>
          <p:cNvPicPr/>
          <p:nvPr/>
        </p:nvPicPr>
        <p:blipFill>
          <a:blip r:embed="rId1"/>
          <a:stretch/>
        </p:blipFill>
        <p:spPr>
          <a:xfrm>
            <a:off x="1036800" y="1625760"/>
            <a:ext cx="7421400" cy="3708360"/>
          </a:xfrm>
          <a:prstGeom prst="rect">
            <a:avLst/>
          </a:prstGeom>
          <a:ln w="0">
            <a:noFill/>
          </a:ln>
        </p:spPr>
      </p:pic>
      <p:sp>
        <p:nvSpPr>
          <p:cNvPr id="489" name=""/>
          <p:cNvSpPr/>
          <p:nvPr/>
        </p:nvSpPr>
        <p:spPr>
          <a:xfrm>
            <a:off x="765720" y="5668920"/>
            <a:ext cx="78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3200" spc="-1" strike="noStrike">
                <a:solidFill>
                  <a:srgbClr val="333333"/>
                </a:solidFill>
                <a:latin typeface="Arial"/>
              </a:rPr>
              <a:t>¡Uno solo no puede con toda la carga!!</a:t>
            </a:r>
            <a:r>
              <a:rPr b="1" i="1" lang="en-US" sz="32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433520" y="533520"/>
            <a:ext cx="62784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4600" spc="-1" strike="noStrike">
                <a:solidFill>
                  <a:srgbClr val="000000"/>
                </a:solidFill>
                <a:latin typeface="Times New Roman"/>
              </a:rPr>
              <a:t>Entender las Expectativas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1" name="" descr=""/>
          <p:cNvPicPr/>
          <p:nvPr/>
        </p:nvPicPr>
        <p:blipFill>
          <a:blip r:embed="rId2"/>
          <a:stretch/>
        </p:blipFill>
        <p:spPr>
          <a:xfrm>
            <a:off x="1189080" y="1778040"/>
            <a:ext cx="7421400" cy="3708360"/>
          </a:xfrm>
          <a:prstGeom prst="rect">
            <a:avLst/>
          </a:prstGeom>
          <a:ln w="0">
            <a:noFill/>
          </a:ln>
        </p:spPr>
      </p:pic>
      <p:pic>
        <p:nvPicPr>
          <p:cNvPr id="492" name="" descr=""/>
          <p:cNvPicPr/>
          <p:nvPr/>
        </p:nvPicPr>
        <p:blipFill>
          <a:blip r:embed="rId3"/>
          <a:stretch/>
        </p:blipFill>
        <p:spPr>
          <a:xfrm>
            <a:off x="1341360" y="1930320"/>
            <a:ext cx="7421760" cy="37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294920" y="456840"/>
            <a:ext cx="7378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17.- Reingeniería de procesos: </a:t>
            </a:r>
            <a:br>
              <a:rPr sz="3200"/>
            </a:br>
            <a:r>
              <a:rPr b="1" lang="es-MX" sz="2200" spc="-1" strike="noStrike">
                <a:solidFill>
                  <a:srgbClr val="000000"/>
                </a:solidFill>
                <a:latin typeface="Arial"/>
              </a:rPr>
              <a:t>Proyecto de Programa para detección de necesidades de Capacitación y Desarrollo</a:t>
            </a: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952560" y="1557360"/>
            <a:ext cx="6788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El Proceso de transformación organizacional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5" name="" descr=""/>
          <p:cNvPicPr/>
          <p:nvPr/>
        </p:nvPicPr>
        <p:blipFill>
          <a:blip r:embed="rId1"/>
          <a:stretch/>
        </p:blipFill>
        <p:spPr>
          <a:xfrm>
            <a:off x="7391520" y="5943600"/>
            <a:ext cx="1066680" cy="623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96" name=""/>
          <p:cNvGraphicFramePr/>
          <p:nvPr/>
        </p:nvGraphicFramePr>
        <p:xfrm>
          <a:off x="609480" y="2133720"/>
          <a:ext cx="8077320" cy="38862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49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2133720"/>
                    <a:ext cx="807732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8" name=""/>
          <p:cNvSpPr/>
          <p:nvPr/>
        </p:nvSpPr>
        <p:spPr>
          <a:xfrm>
            <a:off x="1207440" y="5929200"/>
            <a:ext cx="1323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(continua…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17.- Reingeniería de procesos: </a:t>
            </a:r>
            <a:br>
              <a:rPr sz="3200"/>
            </a:b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Proyecto  de Programa para detección de necesidades de Capacitación y Desarrollo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7958160" cy="3657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975960" y="2205000"/>
            <a:ext cx="6634800" cy="28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a) Diagrama con  el método actual y tradiciona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b) Diagrama con el método simplificado 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Reingeniería de Proces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c) F.O.D.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d) Mapa Estratégico [causa --efecto]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( Favor de ver diagramas  anexo 1, en Excel ), por s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mas claro y comprensible) 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2" name="" descr=""/>
          <p:cNvPicPr/>
          <p:nvPr/>
        </p:nvPicPr>
        <p:blipFill>
          <a:blip r:embed="rId1"/>
          <a:stretch/>
        </p:blipFill>
        <p:spPr>
          <a:xfrm>
            <a:off x="7391520" y="5943600"/>
            <a:ext cx="1066680" cy="6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219320" y="3805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18. Bibliograf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í</a:t>
            </a: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294760" cy="47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33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Reingeniería y Procesos Empresariales.                                                 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e </a:t>
            </a: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Sherman Bohlander/Snell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33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Métodos cuantitativos de los Negoci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de Anderson /Sweeney/William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33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Procesos de Reingeniería, Estudios de caso del  IPADE. [ Miguel A. Ochoa  y  Enrique Taracena F.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33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Reingeniería, Editorial Norma (Michael Hammer y James Champ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33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Reingeniería de procesos de negocios [ Henry Johansson y patrick McHug Limus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33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Métodos y Procedimientos en el proceso de Reingeniería.-[ Humberto González- Rubio y Erasmo Marín, C.N.P.]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33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Quality Management, A.C. (Guía e investigación de campo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33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Hoshin Kanri .-[Raúl Alvarado Herroz y Rafael Arana G.]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33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Revistas Expansión </a:t>
            </a: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articulo</a:t>
            </a: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s sobre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Reingeniería de Procesos –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junio  2001</a:t>
            </a: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33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Revista</a:t>
            </a: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anufactura </a:t>
            </a: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Febrero y Abril 9</a:t>
            </a: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9;Enero 03 );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n bus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e la eficiencia, a través de</a:t>
            </a: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a Reingeniería/ booron y cuenta nueva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5" name="" descr=""/>
          <p:cNvPicPr/>
          <p:nvPr/>
        </p:nvPicPr>
        <p:blipFill>
          <a:blip r:embed="rId1"/>
          <a:stretch/>
        </p:blipFill>
        <p:spPr>
          <a:xfrm>
            <a:off x="8272440" y="5443560"/>
            <a:ext cx="692280" cy="79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1295280" y="457200"/>
            <a:ext cx="7315200" cy="4876920"/>
          </a:xfrm>
          <a:prstGeom prst="lightningBol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09480" y="304920"/>
            <a:ext cx="69868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6600" spc="-1" strike="noStrike">
                <a:solidFill>
                  <a:srgbClr val="000000"/>
                </a:solidFill>
                <a:latin typeface="Arial Black"/>
              </a:rPr>
              <a:t>Reinventarte a ti mismo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2771640" y="2997360"/>
          <a:ext cx="1981440" cy="274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71640" y="2997360"/>
                    <a:ext cx="1981440" cy="27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9" name=""/>
          <p:cNvSpPr/>
          <p:nvPr/>
        </p:nvSpPr>
        <p:spPr>
          <a:xfrm rot="21570000">
            <a:off x="0" y="0"/>
            <a:ext cx="3505320" cy="45972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al vez sea tiempo de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952880"/>
            <a:ext cx="2667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Impact"/>
              </a:rPr>
              <a:t>…</a:t>
            </a:r>
            <a:r>
              <a:rPr b="0" lang="en-US" sz="2000" spc="-1" strike="noStrike">
                <a:solidFill>
                  <a:srgbClr val="cc0000"/>
                </a:solidFill>
                <a:latin typeface="Impact"/>
              </a:rPr>
              <a:t>antes de que sea muy tar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rebuchet MS"/>
              </a:rPr>
              <a:t>Nuevas Tendencias Administrativas</a:t>
            </a:r>
            <a:r>
              <a:rPr b="1" lang="es-MX" sz="3600" spc="-1" strike="noStrike">
                <a:solidFill>
                  <a:srgbClr val="000000"/>
                </a:solidFill>
                <a:latin typeface="Trebuchet MS"/>
              </a:rPr>
              <a:t>                 “</a:t>
            </a:r>
            <a:r>
              <a:rPr b="1" lang="es-MX" sz="3200" spc="-1" strike="noStrike">
                <a:solidFill>
                  <a:srgbClr val="000000"/>
                </a:solidFill>
                <a:latin typeface="Trebuchet MS"/>
              </a:rPr>
              <a:t>Reingenieria de Procesos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662880" cy="180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5400" spc="-1" strike="noStrike">
                <a:solidFill>
                  <a:srgbClr val="000000"/>
                </a:solidFill>
                <a:latin typeface="Arial"/>
              </a:rPr>
              <a:t>Gracias,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por su atención y confianz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1905120" y="5181480"/>
            <a:ext cx="617220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Lic. Jaime G. S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nchez Carril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jsanchez43@prodigy.net.m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371600" y="609480"/>
            <a:ext cx="73785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Arial"/>
              </a:rPr>
              <a:t>1. Definició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68000" y="1557360"/>
            <a:ext cx="814212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33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cc"/>
                </a:solidFill>
                <a:latin typeface="Arial"/>
              </a:rPr>
              <a:t>Reingeniería de Procesos 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33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Es el planteamiento </a:t>
            </a: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fundamental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 y un redise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ñ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radical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 de los </a:t>
            </a: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procesos de negocios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, a fin de lograr mejoras espectaculares de desempe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ñ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o que hoy en día resultan criticas y obsoletas en rendimiento y competitividad, (como costos fijos y variable, de calidad en servicios, y velocidad (en sentido de la rapidez y de la oportunida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33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`</a:t>
            </a:r>
            <a:r>
              <a:rPr b="1" lang="es-MX" sz="2400" spc="-1" strike="noStrike">
                <a:solidFill>
                  <a:srgbClr val="663300"/>
                </a:solidFill>
                <a:latin typeface="Arial"/>
              </a:rPr>
              <a:t>Es reinventar los procesos de la Empres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33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Arial"/>
              </a:rPr>
              <a:t>Es iniciar de “ </a:t>
            </a:r>
            <a:r>
              <a:rPr b="1" lang="es-ES" sz="2400" spc="-1" strike="noStrike" u="sng">
                <a:solidFill>
                  <a:srgbClr val="ff0000"/>
                </a:solidFill>
                <a:uFillTx/>
                <a:latin typeface="Arial"/>
              </a:rPr>
              <a:t>O</a:t>
            </a:r>
            <a:r>
              <a:rPr b="1" lang="es-ES" sz="2400" spc="-1" strike="noStrike">
                <a:solidFill>
                  <a:srgbClr val="ff0000"/>
                </a:solidFill>
                <a:latin typeface="Arial"/>
              </a:rPr>
              <a:t>  “. Para revolucionar los procesos de la Organiz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tretch/>
        </p:blipFill>
        <p:spPr>
          <a:xfrm>
            <a:off x="7238880" y="5897520"/>
            <a:ext cx="1219320" cy="7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971640" y="259920"/>
            <a:ext cx="73785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Arial"/>
              </a:rPr>
              <a:t>2. Objetivo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11280" y="907920"/>
            <a:ext cx="8208720" cy="554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33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cc"/>
                </a:solidFill>
                <a:latin typeface="Arial"/>
              </a:rPr>
              <a:t>Que es Reingeniería de Procesos (?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33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Es hacer lo mismo pero de mejor forma de trabajar,  + inteligentemente;</a:t>
            </a: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33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Se Orienta a los participantes hacia la satisfacción de los consumidores-[el Cliente ] y a la optimización de los proces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33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Modificar la conducta y actitudes de las personas con el fin de lograr un clima Organizacional mas participativo con cambios positivos y proactivos en el desempe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ñ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o individu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33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Conocer como se dividen las responsabilidades de la organización, el dise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ñ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o de sus Sistemas, la motivación a los empleados y sus resultado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33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Comprobar de manera vivencial el impacto de los resultados que se obtienen cuando los sistemas son dise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ñ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ados con  el compromiso,  participaci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ó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n, e involucramiento total  del person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33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Crear  un compromiso de trabajo en equipo para  la satisfacción del cliente con la eficiente implicación de los sistemas establecidos para este fin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33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con mejor comunicación dimensional en tiempo, calidad y costo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7467480" y="6095880"/>
            <a:ext cx="99072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395280" y="1557360"/>
            <a:ext cx="8424720" cy="41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cc"/>
                </a:solidFill>
                <a:latin typeface="Arial"/>
              </a:rPr>
              <a:t>Que es Reingeniería de Procesos (?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+  Metodología cuyo enfoque debe ser el cambio de las relaciones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ent       re los elementos o partes que conforman un proces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productivo para alcanzar una transformación radical en l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indicadores de desempeñ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+  Es hacer lo mismo pero de mejor forma,  trabajar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inteligentemente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+  Es rediseñar los procesos de manera que no esté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fragmentados ni incomunicad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+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564000" y="404640"/>
            <a:ext cx="240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2. Objetivos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371600" y="333360"/>
            <a:ext cx="73785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Arial"/>
              </a:rPr>
              <a:t>3. - Alcanc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95280" y="1557000"/>
            <a:ext cx="82440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33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cc"/>
                </a:solidFill>
                <a:latin typeface="Arial"/>
              </a:rPr>
              <a:t>La  Reingeniería de Procesos (?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333333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800" spc="-1" strike="noStrike">
                <a:solidFill>
                  <a:srgbClr val="0000cc"/>
                </a:solidFill>
                <a:latin typeface="Arial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Abarca  tres  diferentes  enfoques  administrativos  hacia  el  cambio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33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Mejora :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s-ES" sz="2400" spc="-1" strike="noStrike">
                <a:solidFill>
                  <a:srgbClr val="808080"/>
                </a:solidFill>
                <a:latin typeface="Arial"/>
              </a:rPr>
              <a:t>.</a:t>
            </a:r>
            <a:r>
              <a:rPr b="1" lang="es-MX" sz="2400" spc="-1" strike="noStrike">
                <a:solidFill>
                  <a:srgbClr val="808080"/>
                </a:solidFill>
                <a:latin typeface="Arial"/>
              </a:rPr>
              <a:t>                           </a:t>
            </a:r>
            <a:r>
              <a:rPr b="1" lang="es-MX" sz="2400" spc="-1" strike="noStrike">
                <a:solidFill>
                  <a:srgbClr val="663300"/>
                </a:solidFill>
                <a:latin typeface="Arial"/>
              </a:rPr>
              <a:t>Actitudes y competenci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33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Redise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ñ</a:t>
            </a: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o de procesos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 :     </a:t>
            </a:r>
            <a:r>
              <a:rPr b="1" lang="es-MX" sz="2400" spc="-1" strike="noStrike">
                <a:solidFill>
                  <a:srgbClr val="663300"/>
                </a:solidFill>
                <a:latin typeface="Arial"/>
              </a:rPr>
              <a:t>Cambio radical con Valor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663300"/>
                </a:solidFill>
                <a:latin typeface="Arial"/>
              </a:rPr>
              <a:t>                                                  </a:t>
            </a:r>
            <a:r>
              <a:rPr b="1" lang="es-MX" sz="2400" spc="-1" strike="noStrike">
                <a:solidFill>
                  <a:srgbClr val="663300"/>
                </a:solidFill>
                <a:latin typeface="Arial"/>
              </a:rPr>
              <a:t>Agregado.</a:t>
            </a:r>
            <a:r>
              <a:rPr b="1" lang="es-MX" sz="2000" spc="-1" strike="noStrike">
                <a:solidFill>
                  <a:srgbClr val="663300"/>
                </a:solidFill>
                <a:latin typeface="Arial"/>
              </a:rPr>
              <a:t>                                                                                                     </a:t>
            </a:r>
            <a:r>
              <a:rPr b="0" lang="es-ES" sz="2000" spc="-1" strike="noStrike">
                <a:solidFill>
                  <a:srgbClr val="6633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33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Reingeniería de Procesos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s-MX" sz="2400" spc="-1" strike="noStrike">
                <a:solidFill>
                  <a:srgbClr val="663300"/>
                </a:solidFill>
                <a:latin typeface="Arial"/>
              </a:rPr>
              <a:t>Replanteamiento de lo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663300"/>
                </a:solidFill>
                <a:latin typeface="Arial"/>
              </a:rPr>
              <a:t>                                                   </a:t>
            </a:r>
            <a:r>
              <a:rPr b="1" lang="es-MX" sz="2400" spc="-1" strike="noStrike">
                <a:solidFill>
                  <a:srgbClr val="663300"/>
                </a:solidFill>
                <a:latin typeface="Arial"/>
              </a:rPr>
              <a:t>fundamental.</a:t>
            </a:r>
            <a:r>
              <a:rPr b="0" lang="es-MX" sz="2400" spc="-1" strike="noStrike">
                <a:solidFill>
                  <a:srgbClr val="6633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300" spc="-1" strike="noStrike">
                <a:solidFill>
                  <a:srgbClr val="000000"/>
                </a:solidFill>
                <a:latin typeface="Arial"/>
              </a:rPr>
              <a:t>`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1"/>
          <a:stretch/>
        </p:blipFill>
        <p:spPr>
          <a:xfrm>
            <a:off x="7467480" y="5715000"/>
            <a:ext cx="1143000" cy="6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371600" y="404280"/>
            <a:ext cx="73785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Arial"/>
              </a:rPr>
              <a:t>4. Riesgo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81040" y="1484280"/>
            <a:ext cx="8029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33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cc"/>
                </a:solidFill>
                <a:latin typeface="Arial"/>
              </a:rPr>
              <a:t>Con la  Reingeniería de Procesos (?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3333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900" spc="-1" strike="noStrike">
                <a:solidFill>
                  <a:srgbClr val="000000"/>
                </a:solidFill>
                <a:latin typeface="Arial"/>
              </a:rPr>
              <a:t>La estructura tradicional (costumbre y hábitos) que impide resultados Innovadores, (ceguera de taller)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3333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900" spc="-1" strike="noStrike">
                <a:solidFill>
                  <a:srgbClr val="000000"/>
                </a:solidFill>
                <a:latin typeface="Arial"/>
              </a:rPr>
              <a:t>No identificar con  oportunidad los conflictos internos que inhiban la instrumentación interfuncional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3333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900" spc="-1" strike="noStrike">
                <a:solidFill>
                  <a:srgbClr val="000000"/>
                </a:solidFill>
                <a:latin typeface="Arial"/>
              </a:rPr>
              <a:t>No establecer quien es el LEADER, (titular de los procesos)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3333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900" spc="-1" strike="noStrike">
                <a:solidFill>
                  <a:srgbClr val="000000"/>
                </a:solidFill>
                <a:latin typeface="Arial"/>
              </a:rPr>
              <a:t>No auspiciar el proceso en forma directa con los ejecutivos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3333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900" spc="-1" strike="noStrike">
                <a:solidFill>
                  <a:srgbClr val="000000"/>
                </a:solidFill>
                <a:latin typeface="Arial"/>
              </a:rPr>
              <a:t>No saber manejar las dificultades y costos resultantes que superen a los resultados presupuestados. (manejo de contingencias)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3333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900" spc="-1" strike="noStrike">
                <a:solidFill>
                  <a:srgbClr val="000000"/>
                </a:solidFill>
                <a:latin typeface="Arial"/>
              </a:rPr>
              <a:t>Selección de procesos erróneos: Para que su impacto sea exitoso deberán de tratarse de procesos centrales. 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7315200" y="5892840"/>
            <a:ext cx="1143000" cy="77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2T04:39:10Z</dcterms:created>
  <dc:creator>Jaime G. Sanchez Carrillo</dc:creator>
  <dc:description/>
  <dc:language>en-US</dc:language>
  <cp:lastModifiedBy> Jaime G.Sanchez C.</cp:lastModifiedBy>
  <dcterms:modified xsi:type="dcterms:W3CDTF">2010-01-30T02:13:14Z</dcterms:modified>
  <cp:revision>123</cp:revision>
  <dc:subject/>
  <dc:title>Nuevas Tendencias Administrativas                 “Outsourcing“</dc:title>
</cp:coreProperties>
</file>